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C338D-F73F-4613-B5F0-E63EB0DAA03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04-10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厦门大学 人工智能与哲学研讨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E19B-3860-48C9-A97B-65F521B5E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B4FA-61B9-4D55-B187-EB261BF27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ED56-A84B-4244-8A23-E74BA22BF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DA40-CC8E-47BE-B7FB-83F3CCC18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2D7B-C7D5-4F8D-8476-D9BC088F6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1FBA-8179-4F5D-8276-BA5EC4978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898A-99C0-47D7-9B12-F905270F0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6968-DD5B-4539-9A24-134D1C7DA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E2F7-F8FC-4338-B506-BC04EEDC4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D12B-8A53-4292-815C-8E3AB05B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EB17-A98E-42E5-8F12-3570ECB3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39C1-5676-4493-AC52-13BF38DF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67F18-BDFD-40EA-9334-4575D226B11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8000"/>
                </a:solidFill>
                <a:latin typeface="Times New Roman"/>
              </a:rPr>
              <a:t>“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</a:rPr>
              <a:t>人工智能”若干问题</a:t>
            </a: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陈小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中国科学技术大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8000"/>
                </a:solidFill>
                <a:latin typeface="Times New Roman"/>
              </a:rPr>
              <a:t>二、定性决策论研究情况：背景 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自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决策是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的核心问题之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经典决策论的基本概念框架是概率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效用，主导思想是最大预期效用原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经典决策论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中遭遇的重大困难之一是难以获得数值型概率和数值型效用；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主流的解决方向是“定性决策论”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Qualitative decision theory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8000"/>
                </a:solidFill>
                <a:latin typeface="Times New Roman"/>
              </a:rPr>
              <a:t>二、定性决策论研究情况：背景 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目前定性决策论的主要技术途径是意向态度的模态理论，基本技术手段包括一元多模态逻辑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DI-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理论）和条件句逻辑（即关于“偏好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preferenc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和“常规”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normality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的条件句理论）；后者更注重刻画意向的背景相关性方面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二、定性决策论：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</a:rPr>
              <a:t>QDT Logic</a:t>
            </a: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O-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模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Boutilier, 199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M= &lt; W, </a:t>
            </a:r>
            <a:r>
              <a:rPr b="0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, Val &gt;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其中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可能世界集合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Val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*P→{true, false}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赋值函数， </a:t>
            </a:r>
            <a:r>
              <a:rPr b="0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上传递且连接的二元关系，因而所有可能世界构成</a:t>
            </a:r>
            <a:r>
              <a:rPr b="0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等价类的全序集，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理解为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v is at least as preferred/normal as w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二、定性决策论：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</a:rPr>
              <a:t>QDT Logic</a:t>
            </a: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定义两个模态词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w |= 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ٱ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 iff </a:t>
            </a:r>
            <a:r>
              <a:rPr b="0" lang="zh-CN" sz="36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zh-CN" sz="3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w : v |= 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w |= 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↕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ٱ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 iff </a:t>
            </a:r>
            <a:r>
              <a:rPr b="0" lang="zh-CN" sz="36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v </a:t>
            </a:r>
            <a:r>
              <a:rPr b="0" lang="zh-CN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W : v |= 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及其对偶词</a:t>
            </a:r>
            <a:r>
              <a:rPr b="0" lang="ar-SA" sz="3600" spc="-1" strike="noStrike">
                <a:solidFill>
                  <a:srgbClr val="000000"/>
                </a:solidFill>
                <a:latin typeface="Symbol"/>
                <a:ea typeface="Symbol"/>
              </a:rPr>
              <a:t>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和↕</a:t>
            </a:r>
            <a:r>
              <a:rPr b="0" lang="zh-CN" sz="3600" spc="-1" strike="noStrike">
                <a:solidFill>
                  <a:srgbClr val="000000"/>
                </a:solidFill>
                <a:latin typeface="Symbol"/>
                <a:ea typeface="Symbol"/>
              </a:rPr>
              <a:t>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二、定性决策论：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</a:rPr>
              <a:t>QDT Logic</a:t>
            </a: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定义条件偏好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(B|A) 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f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↕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ٱ</a:t>
            </a:r>
            <a:r>
              <a:rPr b="0" lang="ar-SA" sz="3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3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↕</a:t>
            </a:r>
            <a:r>
              <a:rPr b="0" lang="ar-SA" sz="3600" spc="-1" strike="noStrike">
                <a:solidFill>
                  <a:srgbClr val="000000"/>
                </a:solidFill>
                <a:latin typeface="Symbol"/>
                <a:ea typeface="Symbol"/>
              </a:rPr>
              <a:t>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 </a:t>
            </a:r>
            <a:r>
              <a:rPr b="0" lang="ar-SA" sz="3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ٱ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0" lang="zh-CN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B)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易知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M |=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B|A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意味着对于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中最偏爱的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ar-SA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世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和最偏爱的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ar-SA" sz="3200" spc="-1" strike="noStrike">
                <a:solidFill>
                  <a:srgbClr val="000000"/>
                </a:solidFill>
                <a:latin typeface="Symbol"/>
                <a:ea typeface="Symbol"/>
              </a:rPr>
              <a:t>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世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’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w’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二、定性决策论：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</a:rPr>
              <a:t>QDT Logic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性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39640" y="2637000"/>
          <a:ext cx="8280360" cy="338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637000"/>
                    <a:ext cx="8280360" cy="33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二、定性决策论：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</a:rPr>
              <a:t>QDT Logic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缺陷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：推理能力弱，事实分离律无效，例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{I(B|A), A} |</a:t>
            </a:r>
            <a:r>
              <a:rPr b="0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I(B),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而且假如有效则将破坏非单调性，例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{I(B|A), I(</a:t>
            </a:r>
            <a:r>
              <a:rPr b="0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|A</a:t>
            </a:r>
            <a:r>
              <a:rPr b="0" lang="ar-SA" sz="3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, A,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’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}|= I(B),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二、定性决策论：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</a:rPr>
              <a:t>QDT Logic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缺陷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：表达能力不够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Dog and fence)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条件偏好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{I(</a:t>
            </a:r>
            <a:r>
              <a:rPr b="0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f), I(f|d), I(d)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中无法表达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二、定性决策论：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</a:rPr>
              <a:t>QDT Logic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改进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(Lang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等，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003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：同时利用两个序定义条件偏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M |=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B|A)    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</a:rPr>
              <a:t>iff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’</a:t>
            </a:r>
            <a:r>
              <a:rPr b="0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Max(</a:t>
            </a:r>
            <a:r>
              <a:rPr b="0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, Mod(A</a:t>
            </a:r>
            <a:r>
              <a:rPr b="0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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)) </a:t>
            </a:r>
            <a:r>
              <a:rPr b="0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Max(</a:t>
            </a:r>
            <a:r>
              <a:rPr b="0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, Mod(A</a:t>
            </a:r>
            <a:r>
              <a:rPr b="0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)) 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 w </a:t>
            </a:r>
            <a:r>
              <a:rPr b="0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w’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二、定性决策论：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</a:rPr>
              <a:t>QDT Logic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表达能力提高，可表示诸如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dog and fence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，但仍然不能表示更强的愿望冲突如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{I(B|A), I(</a:t>
            </a:r>
            <a:r>
              <a:rPr b="0" lang="zh-CN" sz="3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B|A)}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推理更复杂，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命题的推导需借助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命题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内容提要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对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Artificial Intelligence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理解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定性决策论研究情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Chance Discovery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研究情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三、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</a:rPr>
              <a:t>CD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</a:rPr>
              <a:t>研究情况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</a:rPr>
              <a:t>:</a:t>
            </a: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概况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多学科交叉的新兴研究领域，广泛涉及人工智能、认知科学、经济学与管理科学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年前后正式提出，迅速受到国际学术界的高度重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8000"/>
                </a:solidFill>
                <a:latin typeface="Times New Roman"/>
              </a:rPr>
              <a:t>三、</a:t>
            </a:r>
            <a:r>
              <a:rPr b="1" lang="zh-CN" sz="4000" spc="-1" strike="noStrike">
                <a:solidFill>
                  <a:srgbClr val="808000"/>
                </a:solidFill>
                <a:latin typeface="Times New Roman"/>
              </a:rPr>
              <a:t>CD</a:t>
            </a:r>
            <a:r>
              <a:rPr b="1" lang="zh-CN" sz="4000" spc="-1" strike="noStrike">
                <a:solidFill>
                  <a:srgbClr val="808000"/>
                </a:solidFill>
                <a:latin typeface="Times New Roman"/>
              </a:rPr>
              <a:t>研究情况</a:t>
            </a:r>
            <a:r>
              <a:rPr b="1" lang="zh-CN" sz="4000" spc="-1" strike="noStrike">
                <a:solidFill>
                  <a:srgbClr val="808000"/>
                </a:solidFill>
                <a:latin typeface="Times New Roman"/>
              </a:rPr>
              <a:t>:</a:t>
            </a:r>
            <a:r>
              <a:rPr b="0" lang="zh-CN" sz="4000" spc="-1" strike="noStrike">
                <a:solidFill>
                  <a:srgbClr val="808000"/>
                </a:solidFill>
                <a:latin typeface="Times New Roman"/>
              </a:rPr>
              <a:t>重要国际会议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he First International Workshop on CD, 2001 (The Annual Conference of the Japanese Society of AI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he Second International Workshop on CD, Tokyo, 2002 (The Pacific Rim International AI Conferenc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he AAAI Fall Symposium of Chance Discovery, 200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he 3rd International Workshop on CD, Greece, 2003 (The 10th Int’l Conference on Human Computer Interactio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he First European Workshop on Chance Discovery, 2004 (ECAI-2004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其他（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KES 2000-2004,special sessions on Chance Discover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三、</a:t>
            </a: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CD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</a:rPr>
              <a:t>研究情况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</a:rPr>
              <a:t>:</a:t>
            </a: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重要出版物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pecial Issue on CD, 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</a:rPr>
              <a:t>New Generation Computing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, Vol. 21, No. 1-2 (200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Osawa Y. and McBurney P. (Eds.) "Chance Discovery", Springer Verlag (200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kinori Abe and Yukio Ohsawa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Eds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"Readings in Chance Discovery", Advanced Knowledge International, Australia (to appea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8000"/>
                </a:solidFill>
                <a:latin typeface="Times New Roman"/>
              </a:rPr>
              <a:t>三、 </a:t>
            </a:r>
            <a:r>
              <a:rPr b="1" lang="zh-CN" sz="4000" spc="-1" strike="noStrike">
                <a:solidFill>
                  <a:srgbClr val="808000"/>
                </a:solidFill>
                <a:latin typeface="Times New Roman"/>
              </a:rPr>
              <a:t>CD</a:t>
            </a:r>
            <a:r>
              <a:rPr b="1" lang="zh-CN" sz="4000" spc="-1" strike="noStrike">
                <a:solidFill>
                  <a:srgbClr val="808000"/>
                </a:solidFill>
                <a:latin typeface="Times New Roman"/>
              </a:rPr>
              <a:t>研究情况：主要研究对象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面向人类的：即对人类发现过程和方法的研究，例如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</a:rPr>
              <a:t>Double-Helix Approach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；包括人机交互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面向机器的：即对自动发现过程和方法的研究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8000"/>
                </a:solidFill>
                <a:latin typeface="Times New Roman"/>
              </a:rPr>
              <a:t>三、 </a:t>
            </a:r>
            <a:r>
              <a:rPr b="1" lang="zh-CN" sz="4000" spc="-1" strike="noStrike">
                <a:solidFill>
                  <a:srgbClr val="808000"/>
                </a:solidFill>
                <a:latin typeface="Times New Roman"/>
              </a:rPr>
              <a:t>CD</a:t>
            </a:r>
            <a:r>
              <a:rPr b="1" lang="zh-CN" sz="4000" spc="-1" strike="noStrike">
                <a:solidFill>
                  <a:srgbClr val="808000"/>
                </a:solidFill>
                <a:latin typeface="Times New Roman"/>
              </a:rPr>
              <a:t>研究情况：现有主要工作</a:t>
            </a:r>
            <a:r>
              <a:rPr b="0" lang="zh-CN" sz="4000" spc="-1" strike="noStrike">
                <a:solidFill>
                  <a:srgbClr val="8080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基础理论  逻辑，系统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认知试验  人类学习过程，集体研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计算机制  自动分析工具，人机交互工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应用尝试  地震预报，网络应用，导购，教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8000"/>
                </a:solidFill>
                <a:latin typeface="Times New Roman"/>
              </a:rPr>
              <a:t>三、 </a:t>
            </a:r>
            <a:r>
              <a:rPr b="1" lang="zh-CN" sz="4000" spc="-1" strike="noStrike">
                <a:solidFill>
                  <a:srgbClr val="808000"/>
                </a:solidFill>
                <a:latin typeface="Times New Roman"/>
              </a:rPr>
              <a:t>CD</a:t>
            </a:r>
            <a:r>
              <a:rPr b="1" lang="zh-CN" sz="4000" spc="-1" strike="noStrike">
                <a:solidFill>
                  <a:srgbClr val="808000"/>
                </a:solidFill>
                <a:latin typeface="Times New Roman"/>
              </a:rPr>
              <a:t>研究情况</a:t>
            </a:r>
            <a:r>
              <a:rPr b="1" lang="zh-CN" sz="4000" spc="-1" strike="noStrike">
                <a:solidFill>
                  <a:srgbClr val="808000"/>
                </a:solidFill>
                <a:latin typeface="Times New Roman"/>
              </a:rPr>
              <a:t>:</a:t>
            </a:r>
            <a:r>
              <a:rPr b="1" lang="zh-CN" sz="4000" spc="-1" strike="noStrike">
                <a:solidFill>
                  <a:srgbClr val="808000"/>
                </a:solidFill>
                <a:latin typeface="Times New Roman"/>
              </a:rPr>
              <a:t>国内学者工作</a:t>
            </a:r>
            <a:r>
              <a:rPr b="0" lang="zh-CN" sz="4000" spc="-1" strike="noStrike">
                <a:solidFill>
                  <a:srgbClr val="808000"/>
                </a:solidFill>
                <a:latin typeface="Times New Roman"/>
              </a:rPr>
              <a:t>    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季澄宇，陈小平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hance Discovery in a BDI Perspective of Planning: Anticipation, Participation, and Correlatio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: Proceedings of the 2nd International Workshop on Chance Discovery, Tokyo, 200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诸世卓，陈小平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egrating Abductive Reasoning with Lm4c for Chance specification and Chance Discovery Inference. The Third International Workshop on CD, Greece, 200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皮亮，陈小平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 Quantitative Method for Representing Impacts of Chance based on simplified MDP/POMDP models. The First European Workshop on Chance Discovery, 200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陈小平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ognitive relevance and chance discovery. In: Akinori Abe and Yukio Ohsaw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ds.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"Readings in Chance Discovery", Advanced Knowledge International, Australia (to appea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三、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</a:rPr>
              <a:t>CD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</a:rPr>
              <a:t>研究情况</a:t>
            </a: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：历史起源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lannin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  原始想法可以追溯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年代末不完备知识下的静态规划问题的研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B.&amp;F. Hayes-Rot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 cognitive model of plannin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979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utonomous Agent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不确定环境下的持续规划中机会发现的启发式途径，例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. Pryo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等人的工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(Opportunity recognition in complex environment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AAI-96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ulti-Agent System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年代末，引起国际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主流的重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但未形成独立的研究领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Georgeff, Pell, Pollack, Tambe and Wooldridge. The Belief-Desire-Intention Model of Agency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M/KD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年前后，大澤幸生等从知识发现角度出发，作为一个独立研究领域正式提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(Yukio Ohsaw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hance discoveries for making decisions in complex real world, New Generation Computing, Vol.20,2002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三、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</a:rPr>
              <a:t>CD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</a:rPr>
              <a:t>研究情况</a:t>
            </a: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：初步定义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hanc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是对决策有重要影响的偶发事件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 chance is a </a:t>
            </a:r>
            <a:r>
              <a:rPr b="0" i="1" lang="zh-CN" sz="3200" spc="-1" strike="noStrike">
                <a:solidFill>
                  <a:srgbClr val="0033cc"/>
                </a:solidFill>
                <a:latin typeface="Times New Roman"/>
              </a:rPr>
              <a:t>rare or novel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event which gives significant impact on human decision-making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有正面影响的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hanc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称为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opportunity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有负面影响的称为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risk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三、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</a:rPr>
              <a:t>CD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</a:rPr>
              <a:t>研究情况</a:t>
            </a: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：基本性质</a:t>
            </a: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D vs. K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二者都是“发现”；但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KD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强调以一定量的数据源为基础，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立足于不存在充分数据源的场合。这进一步意味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必须更多地依赖于一般性知识和推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三、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</a:rPr>
              <a:t>CD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</a:rPr>
              <a:t>研究情况</a:t>
            </a: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：基本性质</a:t>
            </a: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D vs. M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二者都是知识获取；但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ML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侧重于知识获取本身，与知识的使用相对独立，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强调二者的关联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一、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</a:rPr>
              <a:t>AI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</a:rPr>
              <a:t>的定义与性质</a:t>
            </a: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基本观点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回顾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过去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多年来的发展历程，其最有趣的哲学问题从“强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弱”之争演变为“真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假”之辩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三、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</a:rPr>
              <a:t>CD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</a:rPr>
              <a:t>研究情况</a:t>
            </a: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：基本性质</a:t>
            </a: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hance vs. prob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概率论也研究偶然事件，但假定这些事件的发生具有统计稳定性；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关心的事件则不必具备这个特性，或者缺乏对应的统计数据。这进一步意味着，基于统计的各种现有方法难以直接适用于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三、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</a:rPr>
              <a:t>CD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</a:rPr>
              <a:t>研究情况</a:t>
            </a: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：基本性质</a:t>
            </a: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D vs. Decision-ma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传统决策论假定，决策相关的概率和效用都是已知的，所谓决策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行动选择只不过是计算最大预期效用；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假定，机会事件的概率和效用都不是已知的；因此，经典决策论不能直接适用于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三、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</a:rPr>
              <a:t>CD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</a:rPr>
              <a:t>研究情况</a:t>
            </a: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：基本性质</a:t>
            </a: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D vs. 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传统知识工程试图利用各种知识解决问题和做出决策，对相关知识的“质”和“量”都有很高要求，并且立足于演绎推理；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需要复杂多样的推理模式和技术，并且相关知识是不完备的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8000"/>
                </a:solidFill>
                <a:latin typeface="Times New Roman"/>
              </a:rPr>
              <a:t>三、</a:t>
            </a:r>
            <a:r>
              <a:rPr b="1" lang="zh-CN" sz="4000" spc="-1" strike="noStrike">
                <a:solidFill>
                  <a:srgbClr val="808000"/>
                </a:solidFill>
                <a:latin typeface="Times New Roman"/>
              </a:rPr>
              <a:t>CD</a:t>
            </a:r>
            <a:r>
              <a:rPr b="1" lang="zh-CN" sz="4000" spc="-1" strike="noStrike">
                <a:solidFill>
                  <a:srgbClr val="808000"/>
                </a:solidFill>
                <a:latin typeface="Times New Roman"/>
              </a:rPr>
              <a:t>研究情况</a:t>
            </a:r>
            <a:r>
              <a:rPr b="0" lang="zh-CN" sz="4000" spc="-1" strike="noStrike">
                <a:solidFill>
                  <a:srgbClr val="808000"/>
                </a:solidFill>
                <a:latin typeface="Times New Roman"/>
              </a:rPr>
              <a:t>：</a:t>
            </a:r>
            <a:r>
              <a:rPr b="1" lang="zh-CN" sz="4000" spc="-1" strike="noStrike">
                <a:solidFill>
                  <a:srgbClr val="808000"/>
                </a:solidFill>
                <a:latin typeface="Times New Roman"/>
              </a:rPr>
              <a:t>基于认知相关性的</a:t>
            </a:r>
            <a:r>
              <a:rPr b="1" lang="zh-CN" sz="4000" spc="-1" strike="noStrike">
                <a:solidFill>
                  <a:srgbClr val="808000"/>
                </a:solidFill>
                <a:latin typeface="Times New Roman"/>
              </a:rPr>
              <a:t>CD</a:t>
            </a:r>
            <a:r>
              <a:rPr b="0" lang="zh-CN" sz="4000" spc="-1" strike="noStrike">
                <a:solidFill>
                  <a:srgbClr val="808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特点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机会是使愿望得到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部分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满足的事件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机会发现与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规划的一种划界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机会发现与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规划的结合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机会发现与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DI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理论的结合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机会发现与机会管理的结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808000"/>
                </a:solidFill>
                <a:latin typeface="Times New Roman"/>
                <a:ea typeface="华文行楷"/>
              </a:rPr>
              <a:t>谢谢</a:t>
            </a: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！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一、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</a:rPr>
              <a:t>AI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</a:rPr>
              <a:t>的定义与性质</a:t>
            </a: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rtificial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的日常语言含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牛津词典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made or produced by man in imitation of something natur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因此，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rtificial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兼具“人造”和“人工”双重含义，似应更确切地译为“人为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一、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</a:rPr>
              <a:t>AI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</a:rPr>
              <a:t>的定义与性质</a:t>
            </a: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. Simon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对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rtificial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的定义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由人而不是自然产生的；不真实的或不自然的；矫揉造作的；与事物的本质无关的”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The Science of the Artificial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商务印书馆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98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可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rtificial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既包含“人工”含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由人而不是自然产生的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又包含“人造”含义。可视其为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rtificial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的标准定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一、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</a:rPr>
              <a:t>AI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</a:rPr>
              <a:t>的定义与性质</a:t>
            </a: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人工”的含义：例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人工降雨”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rtificial rainfall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人工繁殖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artificial propag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特点：产品是“真的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真实的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产生过程是“假的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非自然的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一、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</a:rPr>
              <a:t>AI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</a:rPr>
              <a:t>的定义与性质</a:t>
            </a: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人造”的含义：例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人造革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artificial leather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人造海蜇皮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羊毛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…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特点：产品及其产生过程都是“假的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一、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</a:rPr>
              <a:t>AI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</a:rPr>
              <a:t>的定义与性质</a:t>
            </a: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人工”与“人造”的对比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人造物仅仅是天然物的功能替代品，往往“差强人意”，但有时却可能更强，例如飞机的运输功能比鸟强得多。“人造”智能是当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0" lang="zh-CN" sz="2800" spc="-1" strike="noStrike">
                <a:solidFill>
                  <a:srgbClr val="0033cc"/>
                </a:solidFill>
                <a:latin typeface="Times New Roman"/>
              </a:rPr>
              <a:t>工程目标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人工物比人造物更接近天然物，但往往未必能够按照人的需要制造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发生，例如至今未能制造出像鸟一样的飞行物。“人工”智能是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长期的</a:t>
            </a:r>
            <a:r>
              <a:rPr b="0" lang="zh-CN" sz="2800" spc="-1" strike="noStrike">
                <a:solidFill>
                  <a:srgbClr val="0033cc"/>
                </a:solidFill>
                <a:latin typeface="Times New Roman"/>
              </a:rPr>
              <a:t>科学目标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一、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</a:rPr>
              <a:t>AI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</a:rPr>
              <a:t>的定义与性质</a:t>
            </a: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现状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当前国际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研究既包含“人造智能”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0%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以上），又包含“人工智能”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0%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以下）；与早期情况恰好相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结论：将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rtificial Intelligenc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理解为“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人为智能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”更符合该领域的实际情况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1T03:16:52Z</dcterms:created>
  <dc:creator>陈小平</dc:creator>
  <dc:description/>
  <dc:language>en-US</dc:language>
  <cp:lastModifiedBy>XPChen</cp:lastModifiedBy>
  <dcterms:modified xsi:type="dcterms:W3CDTF">2004-11-14T03:02:03Z</dcterms:modified>
  <cp:revision>23</cp:revision>
  <dc:subject/>
  <dc:title>关于慎思式适应</dc:title>
</cp:coreProperties>
</file>