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DC2-F6B0-4EA2-A158-59833205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81C6-4BF1-454C-8769-C5B80253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057-E66B-4484-BA8B-2F803140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74CA-2DEE-44C8-887F-5BAAD6BA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F4F-BAC8-4B36-B946-119439FE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575-CEEC-4FD3-A841-95FDE9CB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B23-55E8-440A-9569-12EA6216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1DA-309C-4BE5-83AA-36B5D0A9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2379-8E2D-4B38-9EB1-5A355021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BA83-790C-425F-BDB4-1E157A65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04B-B46B-4228-A56B-65B3F2E2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15C9-096E-4FA8-9A12-F6CA16A1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39F3-B701-46D2-A5EA-91A8E8C31A3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对基于虚拟机的计算主义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一些思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郦全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7683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77376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二、问题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存在问题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存在对产生心智状态和过程来说是充分的信息处理虚拟机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答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由基于虚拟机的计算主义所肯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人提供了存在证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多重实现问题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 这样的信息处理虚拟机能由不同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物理系统（机器）来实现吗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答： 实现虚拟机的难度是不同的，有可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只有一种实现方式。心智呢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自然选择的结果，并不一定是最优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现有的计算机能实现产生心智状态的虚拟机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答：至少部分实现是可以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心智在一定意义上是图灵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神经解剖学提供了证据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意识的特殊性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中文屋子问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基于信息处理虚拟机的回答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人与计算机在一定意义上的等价性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都缺乏意识感受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说明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erson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uman being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区别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“蛇神”（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Zombies”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问题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个机器人具备了人所有的一切信息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处理能力，仍将是没有任何意识的“蛇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神”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基于信息处理虚拟机的回答：考虑外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和内部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敬请各位指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谢谢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一、基于虚拟机的计算主义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计算主义的新主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基本主张：心智状态就是虚拟机状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ntal states are  virtual machi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tates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，或心智就是虚拟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参见：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putationalism—n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irections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. Scheutz(ed.), 200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代表人物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英国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Sloman, R. Chrisley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美国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. Scheutz, J. Pollo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共同点：既是人工智能专家又是哲学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基本概念的说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虚拟机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它们是具有机构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rchitectur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的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系统（机器） ，其机构规定了相互作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组元的种类和数量，及其组元对整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系统功能的贡献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它们须借助低层次的（物理）系统来实现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与计算主义相关的虚拟机：信息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虚拟机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formation-processing vir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achin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说明：虚拟机和虚拟客体在自然界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类社会中普遍存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实现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mplementation or realization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和伴生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upervenien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实现—“由上至下”：人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伴生—“由下至上”：进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计算主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计算即信息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计算主义是功能主义的一种，故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于虚拟机的计算主义（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M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也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虚拟机功能主义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MF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VMC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的优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对人工智能的基础研究而言，实现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只侧重算法到关注机构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rchitectur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转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可以避免传统计算主义或功能主义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些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Sloma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的类人虚拟机基本机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-CogAff architectur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23:07:14Z</dcterms:created>
  <dc:creator>lqm</dc:creator>
  <dc:description/>
  <dc:language>en-US</dc:language>
  <cp:lastModifiedBy>lqm</cp:lastModifiedBy>
  <dcterms:modified xsi:type="dcterms:W3CDTF">2004-10-25T14:51:32Z</dcterms:modified>
  <cp:revision>22</cp:revision>
  <dc:subject/>
  <dc:title>对基于虚拟机的计算主义 的一些思考</dc:title>
</cp:coreProperties>
</file>