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4BEC-FDD5-4C5F-9F6A-D8E29F2EE9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BE4-19D8-42D1-A807-0786385521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7680" y="631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FA1C-2D21-4BC1-B592-E095F2A365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7680" y="631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A1B5-09F0-40DC-9100-4451B9DA9A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D163-779F-4462-B281-A948D880D2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9957-256F-4B2A-8207-9AEFB2E79A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039-B3A4-4D77-BA92-35869E6169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7680" y="631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167-0988-4F9B-A9E6-4B5FBE89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40E-3587-4B1B-9F20-C403CBDE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78B-8708-44CA-AE58-79798680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C7A-E549-4F2B-908C-D491F898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BFE30-28D8-46D0-A19F-34408B70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611F8-2837-4C3D-84BC-1B3E1C85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97EFE-5E29-4C06-90BD-D7565A03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0CBEE-434E-47F8-9AB7-97838621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9A355-12BF-487D-AA10-7C1FCFE4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E53C6-E4E9-4843-A7D4-A35AC5F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C5ADD-735B-461E-BBEE-03B2210C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CE3-A848-49C1-B8AC-1E172056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CAA7C-94DA-4A46-A468-10742A8E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0BAFF-90E0-4EBE-AFED-9B81577B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7ED42-4FCC-48A4-9545-68A96FD9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6E738-7E2B-4F22-995E-B4F40EC6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FAB6B-86C8-4F48-9064-D8D63DB9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E8C-F58A-4989-A931-00424E80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39B-2250-4504-BE88-4A09C790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A17-B8EF-44D0-88F5-361FBE1B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368-2A25-4F57-9065-583A7E41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042-1F7F-4B39-8BFC-4D5912AC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548-D9DC-45D5-BCDA-3F2CB176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135-F3A7-4855-AEB0-1EDB3CD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4522-810B-4A45-BCE1-1DC56552577E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1E1-F572-44F9-B1F5-432101422E0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7027-2513-4F76-BDE1-A2881F2BA1EE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90A7-C29C-45AB-8A25-6B71B183CA9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mailto:Shizz@ics.ict.ac.cn" TargetMode="External"/><Relationship Id="rId4" Type="http://schemas.openxmlformats.org/officeDocument/2006/relationships/hyperlink" Target="mailto:Shizz@ics.ict.ac.cn" TargetMode="External"/><Relationship Id="rId5" Type="http://schemas.openxmlformats.org/officeDocument/2006/relationships/hyperlink" Target="mailto:Shizz@ics.ict.ac.cn" TargetMode="External"/><Relationship Id="rId6" Type="http://schemas.openxmlformats.org/officeDocument/2006/relationships/hyperlink" Target="mailto:Shizz@ics.ict.ac.cn" TargetMode="External"/><Relationship Id="rId7" Type="http://schemas.openxmlformats.org/officeDocument/2006/relationships/hyperlink" Target="mailto:Shizz@ics.ict.ac.cn" TargetMode="External"/><Relationship Id="rId8" Type="http://schemas.openxmlformats.org/officeDocument/2006/relationships/hyperlink" Target="mailto:Shizz@ics.ict.ac.cn" TargetMode="External"/><Relationship Id="rId9" Type="http://schemas.openxmlformats.org/officeDocument/2006/relationships/hyperlink" Target="mailto:Shizz@ics.ict.ac.cn" TargetMode="External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5088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2004</a:t>
            </a:r>
            <a:r>
              <a:rPr b="1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年</a:t>
            </a: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隶书"/>
              </a:rPr>
              <a:t>人工智能与哲学研讨会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8288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11253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Times New Roman"/>
                <a:ea typeface="华文隶书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智能科学的逻辑问题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史忠植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바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3"/>
              </a:rPr>
              <a:t>Shizz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4"/>
              </a:rPr>
              <a:t>@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5"/>
              </a:rPr>
              <a:t>ics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7"/>
              </a:rPr>
              <a:t>ict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8"/>
              </a:rPr>
              <a:t>.ac.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9"/>
              </a:rPr>
              <a:t>c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9900"/>
                </a:solidFill>
                <a:latin typeface="Times New Roman"/>
              </a:rPr>
              <a:t>中国科学院计算技术研究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543-F703-49D1-BB6A-263C54EC0D7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59A5B-1C1F-40D5-A301-3631B2F07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523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知识发现是从数据集中抽取和精化新的模式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知识发现的范围非常广泛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可以是经济、工业、农业、军事、社会、商业、科学的数据或卫星观测得到的数据。数据的形态有数字、符号、图形、图象、声音等。数据组织方式也各不相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可以是有结构、半结构、非结构的。知识发现的结果可以表示成各种形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包括规则、法则、科学规律、方程或概念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3B9-C038-4F75-8F9E-18217BBC96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3AE7F-6D2B-4078-83C0-08806DEDC8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981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一般说，演绎推理的前提蕴涵结论，前提为真，结论就一定为真。归纳推理的前提与结论之间不具有这种蕴涵关系，归纳推理的结论超出了前提的范围，因而当前提为真时，结论不一定真。归纳逻辑是关于或然性推理的逻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0D8-EFC7-4E9C-A695-D61DC5EEFC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3C53F-9C40-4398-8786-40CDA2B1C5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981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正当古典归纳逻辑向前发展的时候，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世纪的英国哲学家休谟（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D.Hume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对归纳推理的合理性提出了质疑。休谟提出的问题是：归纳法具有理性的依据吗？如何为归纳法的合理性进行辩护？休谟本人的回答是：为归纳法的合理性进行辩护是不可能的，因此归纳法没有合理性，只不过是人的一种心理本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54F-0DE2-4397-8391-FF9E40C102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49805-2BB9-46F8-B943-A4CE8FDC4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3716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192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年，英国著名的经济学家凯恩斯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J. M. Keynes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将概率理论与归纳逻辑相结合，建立了第一个概率逻辑系统，这标志着现代归纳逻辑的产生。此后，逻辑学家们纷纷提出各自的归纳逻辑系统。现代归纳逻辑的特点是，第一，把概率概念引进归纳逻辑。人们充分认识到归纳推理的或然性，试图从量上刻画这种或然性，很自然地采用了概率概念。现代归纳逻辑的研究几乎都是结合概率、统计理论进行的。第二，不再把归纳看作发现和证明普遍性命题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规律、定律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的活动，而把它看作检验假说的活动。归纳法的职能不是发现全称命题更不能证明它，归纳法主要是通过检验来决定一个假说是否可被接受。第三，数理逻辑即现代演绎逻辑的方法对归纳逻辑的研究产生很大影响，公理化形式化的方法被引入归纳逻辑的研究，产生了许多不同类型的形式化的归纳逻辑系统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88E-9755-4740-A7F4-63089BB60C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B83BA-494B-424D-883B-1467AF468A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371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本世纪二、三十年代以后，随着数学概率论趋于成熟，概率归纳逻辑得以产生和发展。概率归纳逻辑是应用概率论来系统地研究和表述或然性推理的。本世纪七十年代前后，出现了一种非数学概率论的归纳逻辑理论，这种理论也被称为“非帕斯卡概率归纳逻辑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F92-4D35-4095-A66A-05779D5C16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18642-C29B-4381-A156-B21278E9DC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828800"/>
            <a:ext cx="83059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经验主义概率归纳逻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逻辑贝叶斯派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主观贝叶斯派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条件化归纳逻辑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非帕斯卡概率归纳逻辑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000-5345-4B13-B6DA-4607D65DBC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6FA5E-5FB9-45D9-A090-B6B3BFBB2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语义</a:t>
            </a:r>
            <a:r>
              <a:rPr b="1" lang="en-GB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 </a:t>
            </a:r>
            <a:r>
              <a:rPr b="1" lang="en-GB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Web</a:t>
            </a: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286080"/>
            <a:ext cx="223200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tology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4149720"/>
            <a:ext cx="3527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nowledge Re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4797360"/>
            <a:ext cx="281016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4797360"/>
            <a:ext cx="216072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amesp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5229360"/>
            <a:ext cx="3816360" cy="368280"/>
          </a:xfrm>
          <a:prstGeom prst="rect">
            <a:avLst/>
          </a:prstGeom>
          <a:solidFill>
            <a:srgbClr val="e3e3ff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U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3080" y="5229360"/>
            <a:ext cx="1800360" cy="368280"/>
          </a:xfrm>
          <a:prstGeom prst="rect">
            <a:avLst/>
          </a:prstGeom>
          <a:solidFill>
            <a:srgbClr val="e3e3ff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Uni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61080" y="2204640"/>
            <a:ext cx="800280" cy="2521080"/>
            <a:chOff x="6661080" y="2204640"/>
            <a:chExt cx="800280" cy="2521080"/>
          </a:xfrm>
        </p:grpSpPr>
        <p:sp>
          <p:nvSpPr>
            <p:cNvPr id="183" name=""/>
            <p:cNvSpPr/>
            <p:nvPr/>
          </p:nvSpPr>
          <p:spPr>
            <a:xfrm rot="16200000">
              <a:off x="5584680" y="3281040"/>
              <a:ext cx="2521080" cy="36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3e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6016680" y="3281040"/>
              <a:ext cx="2521080" cy="368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e3e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Encry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003640" y="2637000"/>
            <a:ext cx="1584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53080" y="2205000"/>
            <a:ext cx="9349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0720" y="1773360"/>
            <a:ext cx="11509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19280" y="3141360"/>
            <a:ext cx="4968720" cy="637200"/>
            <a:chOff x="1619280" y="3141360"/>
            <a:chExt cx="4968720" cy="637200"/>
          </a:xfrm>
        </p:grpSpPr>
        <p:sp>
          <p:nvSpPr>
            <p:cNvPr id="189" name=""/>
            <p:cNvSpPr/>
            <p:nvPr/>
          </p:nvSpPr>
          <p:spPr>
            <a:xfrm>
              <a:off x="1763640" y="3141720"/>
              <a:ext cx="4824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19280" y="350208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he state of the art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411280" y="3141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59280" y="4149720"/>
            <a:ext cx="35272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3716280"/>
            <a:ext cx="287964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DF Sch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3284640"/>
            <a:ext cx="2232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W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0C8-7C8C-4DCA-985D-8D926EA6A3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E4CEF-BF9B-4BB6-B32B-7E276D0466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                 </a:t>
            </a:r>
            <a:r>
              <a:rPr b="0" lang="zh-CN" sz="5400" spc="-1" strike="noStrike">
                <a:solidFill>
                  <a:srgbClr val="e3e3ff"/>
                </a:solidFill>
                <a:latin typeface="Arial"/>
                <a:ea typeface="华文新魏"/>
              </a:rPr>
              <a:t>语义网格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9280" y="1413000"/>
          <a:ext cx="531324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13000"/>
                    <a:ext cx="53132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246-6144-4047-BFDF-EDEB866179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2BC18-AEEC-4565-8FD0-B899BBBE6D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共享概念模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600200"/>
            <a:ext cx="830556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概念模型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conceptualization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通过抽象出客观世界中一些现象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Phenomenon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相关概念而得到的模型，其表示的含义独立于具体的环境状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明确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explicit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所使用的概念及使用这些概念的约束都有明确的定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形式化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formal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ntology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是计算机可读的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共享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share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ntology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体现的是共同认可的知识，反映的是相关领域中公认的概念集，它所针对的是团体而不是个体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B06-C344-43B3-B5E2-78CCD51D14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57786-5EED-497A-B249-171823B50B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本体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Ontolog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828800"/>
            <a:ext cx="830556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ners-Le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00-12-1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200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会议上正式提出了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目标是使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的信息具有计算机可以理解的语义，满足智能软件代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异构和分布信息的有效访问和搜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ners-Le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为未来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发展提出了基于语义的体系结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系结构。该体系中从底层到高层分别为 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D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olo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7FC-F174-4C98-8EA2-85BC1F5326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66DEB-567A-4BDA-9E51-C0378F3E41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58400"/>
            <a:ext cx="77929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cc"/>
                </a:solidFill>
                <a:latin typeface="Times New Roman"/>
              </a:rPr>
              <a:t>内容提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523880"/>
            <a:ext cx="698508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引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知识表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知识发现</a:t>
            </a:r>
            <a:r>
              <a:rPr b="1" lang="en-US" sz="32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知识共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心智社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结束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C3E-B751-4E8F-9E79-0F119DCE95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1087C-ADB6-4040-94EA-E9DB414391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本体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Ontology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828800"/>
            <a:ext cx="830556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ners-Le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00-12-1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200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会议上正式提出了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[24 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目标是使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的信息具有计算机可以理解的语义，满足智能软件代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异构和分布信息的有效访问和搜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ners-Le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为未来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发展提出了基于语义的体系结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系结构。该体系中从底层到高层分别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[25 ]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D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olo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139-D874-4048-BB41-AA55F0BE8D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6D006-B66A-47E3-8B34-8EF3C52167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动态描述逻辑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D</a:t>
            </a:r>
            <a:r>
              <a:rPr b="1" lang="en-GB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D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48360" y="4724280"/>
            <a:ext cx="426708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1197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 nam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le nam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vidual constan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vidual variabl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 operatio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⊔,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iom operatio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on constractio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mposition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lternation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peat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est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on variabl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iom variabl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π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te variabl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FC4-B56F-4AE9-9AE4-454210EFB7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E07DD-8C6F-4F16-B73E-9B1F12AF85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心智社会</a:t>
            </a: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(</a:t>
            </a:r>
            <a:r>
              <a:rPr b="1" lang="en-IE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Society of Mind)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04920" y="3809880"/>
            <a:ext cx="3200400" cy="2667240"/>
            <a:chOff x="304920" y="3809880"/>
            <a:chExt cx="3200400" cy="2667240"/>
          </a:xfrm>
        </p:grpSpPr>
        <p:sp>
          <p:nvSpPr>
            <p:cNvPr id="209" name=""/>
            <p:cNvSpPr/>
            <p:nvPr/>
          </p:nvSpPr>
          <p:spPr>
            <a:xfrm>
              <a:off x="990720" y="3809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World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280" y="4952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r>
                <a:rPr b="1" lang="en-IE" sz="1800" spc="-1" strike="noStrike" baseline="-25000">
                  <a:solidFill>
                    <a:srgbClr val="003399"/>
                  </a:solidFill>
                  <a:latin typeface="Times New Roman"/>
                </a:rPr>
                <a:t>M</a:t>
              </a: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92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792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9092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09480" y="5334120"/>
              <a:ext cx="114300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1752480" y="5334120"/>
              <a:ext cx="152640" cy="7617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1828440" y="5334120"/>
              <a:ext cx="152388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1371600" y="4191120"/>
              <a:ext cx="380880" cy="761760"/>
            </a:xfrm>
            <a:prstGeom prst="line">
              <a:avLst/>
            </a:prstGeom>
            <a:ln w="38160">
              <a:solidFill>
                <a:srgbClr val="33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267080" y="3809880"/>
            <a:ext cx="3200400" cy="2667240"/>
            <a:chOff x="4267080" y="3809880"/>
            <a:chExt cx="3200400" cy="2667240"/>
          </a:xfrm>
        </p:grpSpPr>
        <p:sp>
          <p:nvSpPr>
            <p:cNvPr id="219" name=""/>
            <p:cNvSpPr/>
            <p:nvPr/>
          </p:nvSpPr>
          <p:spPr>
            <a:xfrm>
              <a:off x="5638680" y="3809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World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57800" y="4952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r>
                <a:rPr b="1" lang="en-IE" sz="1800" spc="-1" strike="noStrike" baseline="-25000">
                  <a:solidFill>
                    <a:srgbClr val="003399"/>
                  </a:solidFill>
                  <a:latin typeface="Times New Roman"/>
                </a:rPr>
                <a:t>M</a:t>
              </a: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572000" y="5334120"/>
              <a:ext cx="114300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5714640" y="5334120"/>
              <a:ext cx="152280" cy="7617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790960" y="5334120"/>
              <a:ext cx="152388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715000" y="4191120"/>
              <a:ext cx="380880" cy="761760"/>
            </a:xfrm>
            <a:prstGeom prst="line">
              <a:avLst/>
            </a:prstGeom>
            <a:ln w="38160">
              <a:solidFill>
                <a:srgbClr val="33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828800" y="3200400"/>
            <a:ext cx="3886200" cy="1752480"/>
            <a:chOff x="1828800" y="3200400"/>
            <a:chExt cx="3886200" cy="1752480"/>
          </a:xfrm>
        </p:grpSpPr>
        <p:sp>
          <p:nvSpPr>
            <p:cNvPr id="229" name=""/>
            <p:cNvSpPr/>
            <p:nvPr/>
          </p:nvSpPr>
          <p:spPr>
            <a:xfrm>
              <a:off x="2895480" y="3200400"/>
              <a:ext cx="1295640" cy="380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r>
                <a:rPr b="1" lang="en-IE" sz="1800" spc="-1" strike="noStrike" baseline="-25000">
                  <a:solidFill>
                    <a:srgbClr val="003399"/>
                  </a:solidFill>
                  <a:latin typeface="Times New Roman"/>
                </a:rPr>
                <a:t>M</a:t>
              </a: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 A+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828800" y="3581280"/>
              <a:ext cx="1676520" cy="13716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505320" y="3581280"/>
              <a:ext cx="2209680" cy="13716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819520" y="1905120"/>
            <a:ext cx="5105160" cy="1447560"/>
            <a:chOff x="2819520" y="1905120"/>
            <a:chExt cx="5105160" cy="1447560"/>
          </a:xfrm>
        </p:grpSpPr>
        <p:sp>
          <p:nvSpPr>
            <p:cNvPr id="233" name=""/>
            <p:cNvSpPr/>
            <p:nvPr/>
          </p:nvSpPr>
          <p:spPr>
            <a:xfrm>
              <a:off x="2819520" y="1905120"/>
              <a:ext cx="1218960" cy="380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World A+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5720" y="2209680"/>
              <a:ext cx="121896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4038120" y="2057040"/>
              <a:ext cx="2667240" cy="30492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190760" y="2362320"/>
              <a:ext cx="2514600" cy="9903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690-9EC3-402E-98E2-E309B1E30BA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1CE13-F7CC-415A-AFEE-B76AFCC9DC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主体基本结构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5238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2438280"/>
            <a:ext cx="23623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环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2720" y="3124080"/>
            <a:ext cx="2438280" cy="1067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3352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505320" y="38862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28954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感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38098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4952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黑箱软件主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0F1-6DB9-4D27-A99A-105964D21B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BAD46-B69E-430B-908B-7AE2036A0F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智能主体的工作过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121932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743200"/>
            <a:ext cx="190476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环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1828800"/>
            <a:ext cx="17528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2743200"/>
            <a:ext cx="1981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信息融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657600"/>
            <a:ext cx="1981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信息处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95680"/>
            <a:ext cx="1981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5486400"/>
            <a:ext cx="17528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9920" y="4191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5105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1676520"/>
            <a:ext cx="236196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362320" y="2133360"/>
            <a:ext cx="2819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2438280" y="4495320"/>
            <a:ext cx="27432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90512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感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49528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D0D-6667-4654-A230-720C8CD62E9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F3631-0B74-4072-BB87-9AF0691CB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反应主体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5238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981080"/>
            <a:ext cx="5257800" cy="3200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67480" y="1905120"/>
            <a:ext cx="990720" cy="3352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74320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当前世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2057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传感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380988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    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800240" y="22096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3276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49528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441972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效应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657600"/>
            <a:ext cx="175248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规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4191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FE7-62B6-430D-B3AB-1F02190BB8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FB9B3-72A5-4C30-8AD9-2DB811D737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认知主体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5238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981080"/>
            <a:ext cx="5257800" cy="4191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1905120"/>
            <a:ext cx="990720" cy="4419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274320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信息融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2057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传感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4876920"/>
            <a:ext cx="17524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    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00240" y="22096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276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6019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0060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8320" y="5486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效应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41148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9810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380988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规    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4343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380988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知识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51814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4876920"/>
            <a:ext cx="17524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目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3048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274320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内部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2DA-4992-462D-9649-2D2B97FADA6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A9782-99CC-4FF5-A086-80D03F9A8F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华文新魏"/>
                <a:ea typeface="华文新魏"/>
              </a:rPr>
              <a:t>BDI</a:t>
            </a:r>
            <a:r>
              <a:rPr b="1" lang="zh-CN" sz="5400" spc="-1" strike="noStrike">
                <a:solidFill>
                  <a:srgbClr val="33cccc"/>
                </a:solidFill>
                <a:latin typeface="华文新魏"/>
                <a:ea typeface="华文新魏"/>
              </a:rPr>
              <a:t>结构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15238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2209680"/>
            <a:ext cx="60984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2209680"/>
            <a:ext cx="60948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2209680"/>
            <a:ext cx="60948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3200400"/>
            <a:ext cx="22860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意    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2743200"/>
            <a:ext cx="281952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2209680"/>
            <a:ext cx="335304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25909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目    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21337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愿    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3352680"/>
            <a:ext cx="45720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095880" y="243792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3657600"/>
            <a:ext cx="152424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3657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3657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4648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DF3-67F4-494A-B175-A6F742E913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234DA-AEFC-44FF-8878-92004DF99E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BDI </a:t>
            </a: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解释器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DI-interpr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-stat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ons := option-gen (event-queue, B, G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ed-options := deliberate (options, B, G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n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elected-options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(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-queue := get-new-events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-successful-attitudes (B, G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-impossible-attitudes (B, G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705360" y="2133720"/>
            <a:ext cx="1522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75560" y="1371600"/>
            <a:ext cx="25520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Beliefs, desires (goals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nd 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2600" y="4572000"/>
            <a:ext cx="20185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atisfied 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un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beliefs, goals,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248160" y="51055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2AF-9C15-450F-A43F-D893015149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1CCA8-9BF3-48BD-8695-25B4659EBF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形式化规范方法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057400"/>
            <a:ext cx="8305920" cy="25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形式定义主体系统需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主体系统是一个意图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807-5999-44F6-8851-6EB04E4E974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4CC32-630F-44B5-BE6F-4C6F4265E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宋体"/>
                <a:ea typeface="华文新魏"/>
              </a:rPr>
              <a:t>人工智能的</a:t>
            </a: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五个基本问题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1000" y="139716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716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1752480"/>
            <a:ext cx="914400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Kirsh 199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年指出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1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与概念化是否是人工智能的核心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能力能否与载体分开来研究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3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的轨迹是否可用类自然语言来描述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4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能力能否与认知分开来研究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5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有的认知是否有一种统一的结构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F05-8098-43BB-9FD0-361CA76E77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CD7E6-422E-400D-BDBE-D01840BDB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形式化对象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05120" y="1600200"/>
            <a:ext cx="58672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信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目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规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协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交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7C1-C93B-4597-B263-5E0882E1FBD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1B16E-6BBC-473E-BEF1-CF44D32ABD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形式化规范方法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2057400"/>
            <a:ext cx="746748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逻辑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–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时序模态逻辑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2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种模型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oehn-Levesque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意图理论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Rao-Georgeff BDI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模型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463-BA87-4331-889B-9E9C12DEFA4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70057-CC01-4670-855C-2F09FB18AF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多主体环境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 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MAGE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1773360"/>
            <a:ext cx="542880" cy="3504960"/>
          </a:xfrm>
          <a:prstGeom prst="rect">
            <a:avLst/>
          </a:prstGeom>
          <a:noFill/>
          <a:ln w="5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quirement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41480" y="35370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73280" y="2306520"/>
            <a:ext cx="542880" cy="2362320"/>
          </a:xfrm>
          <a:prstGeom prst="rect">
            <a:avLst/>
          </a:prstGeom>
          <a:noFill/>
          <a:ln w="5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60800" y="352584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2560" y="2001960"/>
            <a:ext cx="3468960" cy="2971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ystem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51160" y="2459160"/>
            <a:ext cx="543240" cy="2361960"/>
          </a:xfrm>
          <a:prstGeom prst="rect">
            <a:avLst/>
          </a:prstGeom>
          <a:solidFill>
            <a:srgbClr val="ffffff"/>
          </a:solidFill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haviour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8800" y="2535120"/>
            <a:ext cx="542880" cy="2210040"/>
          </a:xfrm>
          <a:prstGeom prst="rect">
            <a:avLst/>
          </a:prstGeom>
          <a:solidFill>
            <a:srgbClr val="ffffff"/>
          </a:solidFill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gent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13480" y="2459160"/>
            <a:ext cx="528840" cy="2286000"/>
          </a:xfrm>
          <a:prstGeom prst="rect">
            <a:avLst/>
          </a:prstGeom>
          <a:solidFill>
            <a:srgbClr val="ffffff"/>
          </a:solidFill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gent Soci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61000" y="36021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04000" y="3602160"/>
            <a:ext cx="60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00880" y="3537000"/>
            <a:ext cx="560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37360" y="2230560"/>
            <a:ext cx="543240" cy="2666880"/>
          </a:xfrm>
          <a:prstGeom prst="rect">
            <a:avLst/>
          </a:prstGeom>
          <a:noFill/>
          <a:ln w="5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ystem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2243160" y="4824000"/>
            <a:ext cx="298440" cy="1219320"/>
          </a:xfrm>
          <a:custGeom>
            <a:avLst/>
            <a:gdLst>
              <a:gd name="textAreaLeft" fmla="*/ 190800 w 298440"/>
              <a:gd name="textAreaRight" fmla="*/ 298800 w 2984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5431680" y="3690000"/>
            <a:ext cx="403200" cy="3494160"/>
          </a:xfrm>
          <a:custGeom>
            <a:avLst/>
            <a:gdLst>
              <a:gd name="textAreaLeft" fmla="*/ 257760 w 403200"/>
              <a:gd name="textAreaRight" fmla="*/ 403560 w 403200"/>
              <a:gd name="textAreaTop" fmla="*/ 91080 h 3494160"/>
              <a:gd name="textAreaBottom" fmla="*/ 3403080 h 34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8101800" y="5083920"/>
            <a:ext cx="309600" cy="457200"/>
          </a:xfrm>
          <a:custGeom>
            <a:avLst/>
            <a:gdLst>
              <a:gd name="textAreaLeft" fmla="*/ 198000 w 309600"/>
              <a:gd name="textAreaRight" fmla="*/ 309960 w 309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47640" y="57340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16360" y="5734080"/>
            <a:ext cx="181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VA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65880" y="5734080"/>
            <a:ext cx="1878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AGE Running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D87-1824-4C1A-A587-FCA7F589F81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B4D10-95D0-4941-BDDA-0FF62A4AF3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cc"/>
                </a:solidFill>
                <a:latin typeface="Arial"/>
              </a:rPr>
              <a:t>结束语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01"/>
              </a:spcBef>
              <a:buClr>
                <a:srgbClr val="33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逻辑是智能科学的重要基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33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隶书"/>
              </a:rPr>
              <a:t>我国必须积极开展符号逻辑的研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6A6-CE47-4927-9AFD-60BED60EF4E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8422B-69A2-4777-BF6A-60E6EDDEB4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662472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谢   谢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828800" y="1824120"/>
            <a:ext cx="5349960" cy="29113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547640" y="4869000"/>
            <a:ext cx="6477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98800" y="4708440"/>
            <a:ext cx="567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QUESTIONS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A67-A45F-4B8A-9BC2-5BCBD5CFFCB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4F093-741B-441D-9766-0CA706219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人工智能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1000" y="139716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716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28600" y="182880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符号主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连接主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行为主义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6C9-9E24-4E16-B135-E3C8FC7EEE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C4B66-27D9-41CC-9321-382B275DCF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6000" spc="-1" strike="noStrike">
                <a:solidFill>
                  <a:srgbClr val="00ffcc"/>
                </a:solidFill>
                <a:latin typeface="华文新魏"/>
                <a:ea typeface="华文新魏"/>
              </a:rPr>
              <a:t>科学发展大趋势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68560"/>
            <a:ext cx="87631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纪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智能科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智能科学是一门交叉学科，主要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     </a:t>
            </a:r>
            <a:r>
              <a:rPr b="1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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脑科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     </a:t>
            </a:r>
            <a:r>
              <a:rPr b="1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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认知科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     </a:t>
            </a:r>
            <a:r>
              <a:rPr b="1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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人工智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  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等学科共同研究智能行为的基本理论和实现技术。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Romans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381-AB05-4933-B73E-38B34D725E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C39CF-9BF0-4D1B-B5BA-E6AA40CB1F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智能科学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701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162080"/>
            <a:ext cx="1524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46341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003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智能不仅要功能模拟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而且要机理模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1504800"/>
            <a:ext cx="7924320" cy="5354640"/>
            <a:chOff x="1219320" y="1504800"/>
            <a:chExt cx="7924320" cy="53546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219320" y="1504800"/>
              <a:ext cx="5203800" cy="41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1784880" y="5667480"/>
              <a:ext cx="4390200" cy="73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Actions from thoughts 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918120" y="1688760"/>
              <a:ext cx="2225520" cy="3773880"/>
              <a:chOff x="6918120" y="1688760"/>
              <a:chExt cx="2225520" cy="3773880"/>
            </a:xfrm>
          </p:grpSpPr>
          <p:pic>
            <p:nvPicPr>
              <p:cNvPr id="1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11240" y="1688760"/>
                <a:ext cx="1256040" cy="140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18120" y="2974320"/>
                <a:ext cx="2225520" cy="24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7773120" y="2974320"/>
                <a:ext cx="134640" cy="416160"/>
              </a:xfrm>
              <a:custGeom>
                <a:avLst/>
                <a:gdLst/>
                <a:ahLst/>
                <a:rect l="l" t="t" r="r" b="b"/>
                <a:pathLst>
                  <a:path w="52" h="182">
                    <a:moveTo>
                      <a:pt x="28" y="0"/>
                    </a:moveTo>
                    <a:cubicBezTo>
                      <a:pt x="0" y="41"/>
                      <a:pt x="14" y="7"/>
                      <a:pt x="28" y="63"/>
                    </a:cubicBezTo>
                    <a:cubicBezTo>
                      <a:pt x="38" y="102"/>
                      <a:pt x="52" y="182"/>
                      <a:pt x="52" y="182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7907040" y="2983680"/>
                <a:ext cx="86760" cy="406800"/>
              </a:xfrm>
              <a:custGeom>
                <a:avLst/>
                <a:gdLst/>
                <a:ahLst/>
                <a:rect l="l" t="t" r="r" b="b"/>
                <a:pathLst>
                  <a:path w="29" h="158">
                    <a:moveTo>
                      <a:pt x="5" y="0"/>
                    </a:moveTo>
                    <a:cubicBezTo>
                      <a:pt x="13" y="18"/>
                      <a:pt x="29" y="35"/>
                      <a:pt x="29" y="55"/>
                    </a:cubicBezTo>
                    <a:cubicBezTo>
                      <a:pt x="29" y="70"/>
                      <a:pt x="8" y="79"/>
                      <a:pt x="5" y="94"/>
                    </a:cubicBezTo>
                    <a:cubicBezTo>
                      <a:pt x="0" y="115"/>
                      <a:pt x="5" y="137"/>
                      <a:pt x="5" y="158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602000" y="6338880"/>
              <a:ext cx="48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3ff"/>
                  </a:solidFill>
                  <a:latin typeface="Times New Roman"/>
                </a:rPr>
                <a:t>( </a:t>
              </a:r>
              <a:r>
                <a:rPr b="1" lang="en-US" sz="2800" spc="-1" strike="noStrike">
                  <a:solidFill>
                    <a:srgbClr val="e3e3ff"/>
                  </a:solidFill>
                  <a:latin typeface="Times New Roman"/>
                </a:rPr>
                <a:t>Nature </a:t>
              </a:r>
              <a:r>
                <a:rPr b="1" lang="en-US" sz="2800" spc="-1" strike="noStrike">
                  <a:solidFill>
                    <a:srgbClr val="e3e3ff"/>
                  </a:solidFill>
                  <a:latin typeface="Times New Roman"/>
                  <a:ea typeface="隶书"/>
                </a:rPr>
                <a:t>409, 2001</a:t>
              </a:r>
              <a:r>
                <a:rPr b="1" lang="en-US" sz="2800" spc="-1" strike="noStrike">
                  <a:solidFill>
                    <a:srgbClr val="e3e3ff"/>
                  </a:solidFill>
                  <a:latin typeface="Times New Roman"/>
                </a:rPr>
                <a:t> )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59B-D551-42FA-B86A-46262A2669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554EF-75BB-4A5A-A0A4-9E2742A6A6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371600"/>
            <a:ext cx="914400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知识表示问题——也就是如何最佳地捕捉智能行为的关键特征以供在计算机上使用，或者说以供与人交流——一直是人工智能的一个永恒主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表示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07E-0F10-496E-A024-181202983B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8F750-3F64-44CD-A82B-D2407C407D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问题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523880"/>
            <a:ext cx="723888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不确定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不完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动态行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效推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可塑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构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A72-6FD2-49AF-B711-8C4B4C2664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07C51-B393-47FB-8C73-25929202B1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19320" y="1905120"/>
            <a:ext cx="678168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命题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阶谓词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态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糊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动态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时序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逻辑是重要的知识表示语言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A8C-EE5A-4CB2-BFB9-3C1E8EA1B9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26DC0-1037-48CC-BA95-31DF793C2A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1:05:51Z</dcterms:created>
  <dc:creator>l</dc:creator>
  <dc:description/>
  <dc:language>en-US</dc:language>
  <cp:lastModifiedBy>shi</cp:lastModifiedBy>
  <dcterms:modified xsi:type="dcterms:W3CDTF">2004-11-01T13:16:00Z</dcterms:modified>
  <cp:revision>246</cp:revision>
  <dc:subject/>
  <dc:title>网络数据采掘分析器 WebMiner</dc:title>
</cp:coreProperties>
</file>