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C2F-6C3D-4AB2-9747-55CE205B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AB9-F303-4CB1-9CFE-B9EA3F2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6AA-E5D4-4CE0-9C71-F015524D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A69-CB20-4803-A39A-B8702495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815-C62B-49D8-9C84-E31DE668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A0EC-69CB-48C1-B191-26CA230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72F7-1654-4593-9A57-CE8AE465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2333-BF35-4FBA-BFC7-5DC61CE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99A3-FE3D-4087-A069-A63A3EDA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92E1-A2FD-411B-A9A3-65B5D5CC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4372-11F1-432A-84B2-65401172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B6C-38BE-416C-A828-6E0D234F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7B65-465A-459A-913A-8ECFACB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ED1F-2A70-4A59-9F1F-6869470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660-CAC5-4DA4-9684-2080527A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5B73-669D-499B-9BB2-AE80D534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F955-1972-43E5-B4E3-610FC469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EC9-C23D-40F7-BCB7-D6AA635F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C1E-F67E-4D5C-ABDF-0950706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14C-4E64-4693-9C08-420808A1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9A9-72C5-46BA-81BF-B53BEEC1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ECE-D62C-43A9-A6A5-88769B1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5DA-DEFA-4747-B5E6-DA7CD2F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12A-4919-4F29-853C-B2705A2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0042-D242-400E-8436-72330956449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A9B7-CE96-4228-8490-2B55357FF3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Arial"/>
                <a:ea typeface="华文新魏"/>
              </a:rPr>
              <a:t>关于意图与行动的哲学思考</a:t>
            </a:r>
            <a:endParaRPr b="0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560" y="2565360"/>
            <a:ext cx="67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朱     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中国科学院研究生院人文学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北京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000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jingzhu@gscas.ac.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82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做计划是人特有的理性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是认知资源有限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H. A. Simo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是有理性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在行动前需要未雨绸缪，三思而行，而不能总是临时抱佛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所以，人需要做计划，让当前的思索、决策能够有效地指导、影响未来的思考和行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与意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的流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916280"/>
            <a:ext cx="2520720" cy="93636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慎思（构思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比较、权衡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3500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决策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选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意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1341360"/>
            <a:ext cx="0" cy="57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292428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22100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58972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5300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2276640"/>
            <a:ext cx="0" cy="30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276640"/>
            <a:ext cx="433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748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的若干特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计划不一定是完整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计划不一定是很具体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理性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不应该随意抛弃一个制定好的计划，也不应该死抱着一个计划不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计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Intentions are building blocks of plans, and plans are intentions writ l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稳定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在各方面情况没有发生重大变化的情况下，一个理性的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通常不会改变其意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承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公开承诺与（内在）心理承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实践推理和行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随后的推理和行动提供了一个背景框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认知资源有限的理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有效、合理、有序地安排自己的活动提供了一种便捷、可靠的推理模式和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之间进行合作与协调提供了共享的概念与认知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合理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意图的形成，意图的保持、更新与放弃，意图与信念，集体意图（多主体意图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人工智能与哲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Minds and Mach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Synthese : Special Section on Rationality, Knowledge, and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luwer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谢谢大家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与常识心理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常识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folk psychology,  commonsense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们用于理解、解释和预测他人的心理状态和过程以及行为的一整套理论、方法和技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常识心理学的一些基本“理论”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信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belief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愿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desire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希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wish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决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decision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情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emotion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个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ersonality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是常识心理学的基本概念之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有意（打算、准备、故意）做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的真实意图是……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项庄舞剑，意在沛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这么做是故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完全是无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理解意图与蓄意行为的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行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action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与行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behavior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道德职责和法律责任的归咎与判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如故意伤害，故意杀人，过失杀人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成为哲学反思的对象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abeth Anscombe (1920~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7,  Basil Black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,  Cornell University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,  Harvard University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ld Davidson (1922~20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, “Actions, Reasons, and Caus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+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292428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57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2924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28464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9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653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题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ure intention, intending to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是人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与信念、愿望等一样，意图是人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obert Au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Gilbert Ha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Michael Brat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Michael R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Hugh McC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lfred M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的本体论地位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三种看法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630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并不存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nscombe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早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Davidson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维特根斯坦追随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存在，但可以还原（化约）为信念与愿望的组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obert Audi, Wayne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存在，且不可以还原为信念与愿望，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ational 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一类特殊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当代大多数行动哲学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与其它领域的研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91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伦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契约论传统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David Gauthi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Thomas Scan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发展（儿童）心理学，社会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工智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BD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模型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Belief―Desire―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Bratman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关于意图的规划理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91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ning theory of 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ntion, Plans, and Practical R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ard University Press,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: CSLI Publications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ces of Intention: Essays on Intention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bridge University Press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5:15:47Z</dcterms:created>
  <dc:creator>Zhu</dc:creator>
  <dc:description/>
  <dc:language>en-US</dc:language>
  <cp:lastModifiedBy>Zhu</cp:lastModifiedBy>
  <dcterms:modified xsi:type="dcterms:W3CDTF">2004-10-29T17:19:41Z</dcterms:modified>
  <cp:revision>7</cp:revision>
  <dc:subject/>
  <dc:title>关于意图与行动的哲学思考</dc:title>
</cp:coreProperties>
</file>