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C236-3DF4-4C6E-B885-5566547C4DF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04-10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厦门大学 人工智能与哲学研讨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0EC-CA5F-4FF0-B3C2-88340718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471F-0CAA-41E9-955F-52E69FDA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1F4-B29A-447B-8CAF-F89B5C34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713-01A4-40CE-8A6F-77EF7047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D34-BB2E-4840-9316-6905A246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BB6-4B3B-46C7-997A-189FBEFF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F57-DB6E-4212-977D-066F844E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108-68D7-4DD5-A7AC-6E3496B9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2A5-4CAC-4434-BB50-8A980C2C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053-87D2-44CC-BB7B-3F13AE7E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E9C-3A3A-416E-8D33-698916C3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B5F-B300-450B-B4C6-E918FFC5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D7F5-14C0-4F17-B936-C9A0F5AD91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人工智能”若干问题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陈小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国科学技术大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二、定性决策论研究情况：背景 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决策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核心问题之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经典决策论的基本概念框架是概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效用，主导思想是最大预期效用原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经典决策论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遭遇的重大困难之一是难以获得数值型概率和数值型效用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流的解决方向是“定性决策论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Qualitative decision theory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二、定性决策论研究情况：背景 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目前定性决策论的主要技术途径是意向态度的模态理论，基本技术手段包括一元多模态逻辑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DI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论）和条件句逻辑（即关于“偏好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referenc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“常规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rm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条件句理论）；后者更注重刻画意向的背景相关性方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二、定性决策论：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QDT Logic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模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outilier, 199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= &lt; W,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 Val &gt;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可能世界集合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V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*P→{true, false}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赋值函数，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传递且连接的二元关系，因而所有可能世界构成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等价类的全序集，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解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v is at least as preferred/normal as 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二、定性决策论：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QDT Logic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定义两个模态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 |=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iff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 : v |=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 |=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↕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iff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v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 : v |=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及其对偶词</a:t>
            </a:r>
            <a:r>
              <a:rPr b="0" lang="ar-SA" sz="36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↕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二、定性决策论：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QDT Logic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定义条件偏好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B|A) 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↕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ٱ</a:t>
            </a:r>
            <a:r>
              <a:rPr b="0" lang="ar-SA" sz="3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↕</a:t>
            </a:r>
            <a:r>
              <a:rPr b="0" lang="ar-SA" sz="36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</a:t>
            </a:r>
            <a:r>
              <a:rPr b="0" lang="ar-SA" sz="3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)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易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 |=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|A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意味着对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最偏爱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世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最偏爱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世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w’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二、定性决策论：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QDT Logic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9640" y="2637000"/>
          <a:ext cx="8280360" cy="33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37000"/>
                    <a:ext cx="828036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二、定性决策论：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QDT Logic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缺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推理能力弱，事实分离律无效，例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{I(B|A), A} |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(B),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而且假如有效则将破坏非单调性，例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{I(B|A), I(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|A</a:t>
            </a:r>
            <a:r>
              <a:rPr b="0" lang="ar-SA" sz="3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, A,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}|= I(B),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二、定性决策论：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QDT Logic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缺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表达能力不够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Dog and fence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条件偏好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{I(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), I(f|d), I(d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无法表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二、定性决策论：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QDT Logic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改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Lan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等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003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同时利用两个序定义条件偏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 |=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|A)   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’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Max(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 Mod(A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))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Max(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 Mod(A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))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w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w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二、定性决策论：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QDT Logic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表达能力提高，可表示诸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og and fenc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但仍然不能表示更强的愿望冲突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{I(B|A), I(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|A)}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推理更复杂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命题的推导需借助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命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内容提要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rtificial Intelligenc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理解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定性决策论研究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hance Discover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研究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: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概况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多学科交叉的新兴研究领域，广泛涉及人工智能、认知科学、经济学与管理科学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前后正式提出，迅速受到国际学术界的高度重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重要国际会议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First International Workshop on CD, 2001 (The Annual Conference of the Japanese Society of A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Second International Workshop on CD, Tokyo, 2002 (The Pacific Rim International AI Conferen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AAAI Fall Symposium of Chance Discovery, 20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3rd International Workshop on CD, Greece, 2003 (The 10th Int’l Conference on Human Computer Interac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First European Workshop on Chance Discovery, 2004 (ECAI-200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他（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ES 2000-2004,special sessions on Chance Discover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: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重要出版物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pecial Issue on CD,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New Generation Computin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 Vol. 21, No. 1-2 (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sawa Y. and McBurney P. (Eds.) "Chance Discovery", Springer Verlag (200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kinori Abe and Yukio Ohsaw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ds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"Readings in Chance Discovery", Advanced Knowledge International, Australia (to appea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三、 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研究情况：主要研究对象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面向人类的：即对人类发现过程和方法的研究，例如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Double-Helix Approac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包括人机交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面向机器的：即对自动发现过程和方法的研究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三、 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研究情况：现有主要工作</a:t>
            </a: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础理论  逻辑，系统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认知试验  人类学习过程，集体研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计算机制  自动分析工具，人机交互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应用尝试  地震预报，网络应用，导购，教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三、 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国内学者工作</a:t>
            </a: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季澄宇，陈小平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nce Discovery in a BDI Perspective of Planning: Anticipation, Participation, and Correla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: Proceedings of the 2nd International Workshop on Chance Discovery, Tokyo, 20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诸世卓，陈小平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grating Abductive Reasoning with Lm4c for Chance specification and Chance Discovery Inference. The Third International Workshop on CD, Greece, 200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皮亮，陈小平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 Quantitative Method for Representing Impacts of Chance based on simplified MDP/POMDP models. The First European Workshop on Chance Discovery, 200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陈小平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gnitive relevance and chance discovery. In: Akinori Abe and Yukio Ohsaw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ds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Readings in Chance Discovery", Advanced Knowledge International, Australia (to appe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：历史起源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 原始想法可以追溯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代末不完备知识下的静态规划问题的研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.&amp;F. Hayes-Ro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 cognitive model of plann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79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utonomous Agent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不确定环境下的持续规划中机会发现的启发式途径，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 Pry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人的工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Opportunity recognition in complex environment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AAI-96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ulti-Agent Syste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代末，引起国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流的重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未形成独立的研究领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orgeff, Pell, Pollack, Tambe and Wooldridge. The Belief-Desire-Intention Model of Agency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M/KD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前后，大澤幸生等从知识发现角度出发，作为一个独立研究领域正式提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Yukio Ohsaw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nce discoveries for making decisions in complex real world, New Generation Computing, Vol.20,200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：初步定义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hanc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对决策有重要影响的偶发事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chance is a </a:t>
            </a:r>
            <a:r>
              <a:rPr b="0" i="1" lang="zh-CN" sz="3200" spc="-1" strike="noStrike">
                <a:solidFill>
                  <a:srgbClr val="0033cc"/>
                </a:solidFill>
                <a:latin typeface="Times New Roman"/>
              </a:rPr>
              <a:t>rare or nove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event which gives significant impact on human decision-making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正面影响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anc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称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pportun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有负面影响的称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is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：基本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 vs. K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者都是“发现”；但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KD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强调以一定量的数据源为基础，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立足于不存在充分数据源的场合。这进一步意味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必须更多地依赖于一般性知识和推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：基本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 vs. M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者都是知识获取；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侧重于知识获取本身，与知识的使用相对独立，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强调二者的关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一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AI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的定义与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观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回顾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过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多年来的发展历程，其最有趣的哲学问题从“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弱”之争演变为“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假”之辩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：基本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ance vs.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概率论也研究偶然事件，但假定这些事件的发生具有统计稳定性；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关心的事件则不必具备这个特性，或者缺乏对应的统计数据。这进一步意味着，基于统计的各种现有方法难以直接适用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：基本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 vs. Decision-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传统决策论假定，决策相关的概率和效用都是已知的，所谓决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行动选择只不过是计算最大预期效用；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假定，机会事件的概率和效用都不是已知的；因此，经典决策论不能直接适用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：基本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 vs.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传统知识工程试图利用各种知识解决问题和做出决策，对相关知识的“质”和“量”都有很高要求，并且立足于演绎推理；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需要复杂多样的推理模式和技术，并且相关知识是不完备的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三、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研究情况</a:t>
            </a: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基于认知相关性的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CD</a:t>
            </a: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特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机会是使愿望得到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部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满足的事件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机会发现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规划的一种划界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机会发现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规划的结合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机会发现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D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论的结合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机会发现与机会管理的结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808000"/>
                </a:solidFill>
                <a:latin typeface="Times New Roman"/>
                <a:ea typeface="华文行楷"/>
              </a:rPr>
              <a:t>谢谢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！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一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AI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的定义与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tifici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日常语言含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牛津词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de or produced by man in imitation of something na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此，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tifici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兼具“人造”和“人工”双重含义，似应更确切地译为“人为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一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AI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的定义与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. Sim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tifici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定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由人而不是自然产生的；不真实的或不自然的；矫揉造作的；与事物的本质无关的”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The Science of the Artificia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商务印书馆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tifici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既包含“人工”含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由人而不是自然产生的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又包含“人造”含义。可视其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tifici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标准定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一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AI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的定义与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工”的含义：例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工降雨”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tificial rainfal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工繁殖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artificial propag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特点：产品是“真的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真实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产生过程是“假的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非自然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一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AI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的定义与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造”的含义：例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造革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artificial leathe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造海蜇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羊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…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特点：产品及其产生过程都是“假的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一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AI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的定义与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工”与“人造”的对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造物仅仅是天然物的功能替代品，往往“差强人意”，但有时却可能更强，例如飞机的运输功能比鸟强得多。“人造”智能是当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工程目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工物比人造物更接近天然物，但往往未必能够按照人的需要制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发生，例如至今未能制造出像鸟一样的飞行物。“人工”智能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长期的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科学目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一、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AI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的定义与性质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当前国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研究既包含“人造智能”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上），又包含“人工智能”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下）；与早期情况恰好相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论：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tificial Intelligenc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解为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人为智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更符合该领域的实际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03:16:52Z</dcterms:created>
  <dc:creator>陈小平</dc:creator>
  <dc:description/>
  <dc:language>en-US</dc:language>
  <cp:lastModifiedBy>XPChen</cp:lastModifiedBy>
  <dcterms:modified xsi:type="dcterms:W3CDTF">2004-11-14T03:02:03Z</dcterms:modified>
  <cp:revision>23</cp:revision>
  <dc:subject/>
  <dc:title>关于慎思式适应</dc:title>
</cp:coreProperties>
</file>