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1F4-1035-45DB-909A-9FB5F40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0ED-4435-46DF-8A03-9361498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433-8701-4B93-9BA3-D5B001E9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D1F-0E4B-4D9F-8BB7-B9AE836C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29D-469E-4752-97D8-8848F6A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D58-3AA5-468E-AF38-FBEFB77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D49-5FAE-4634-BF7D-CF698A46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1EC-84EE-48BC-9779-2196B851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F90-FE9F-428C-81A4-E1E9714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6B7-58C2-4788-8BFC-A093CC7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BB3-10BD-4949-8812-CC89E1B6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D83-83D4-44F5-A36D-67A2D68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667-1A6C-43B8-A0EA-79034C3B45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对基于虚拟机的计算主义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一些思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郦全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68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73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、问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存在问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存在对产生心智状态和过程来说是充分的信息处理虚拟机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由基于虚拟机的计算主义所肯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人提供了存在证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多重实现问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这样的信息处理虚拟机能由不同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物理系统（机器）来实现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答： 实现虚拟机的难度是不同的，有可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有一种实现方式。心智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然选择的结果，并不一定是最优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现有的计算机能实现产生心智状态的虚拟机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至少部分实现是可以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心智在一定意义上是图灵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神经解剖学提供了证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意识的特殊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中文屋子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基于信息处理虚拟机的回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人与计算机在一定意义上的等价性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都缺乏意识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说明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erson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uman be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区别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“蛇神”（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Zombies”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问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机器人具备了人所有的一切信息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处理能力，仍将是没有任何意识的“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神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于信息处理虚拟机的回答：考虑外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和内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敬请各位指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谢谢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一、基于虚拟机的计算主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计算主义的新主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基本主张：心智状态就是虚拟机状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ntal states are  virtual mach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ates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，或心智就是虚拟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参见：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utationalism—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rections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. Scheutz(ed.), 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代表人物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国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Sloman, R. Chrisle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美国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. Scheutz, J. Pollo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共同点：既是人工智能专家又是哲学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基本概念的说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虚拟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它们是具有机构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（机器） ，其机构规定了相互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组元的种类和数量，及其组元对整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功能的贡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它们须借助低层次的（物理）系统来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与计算主义相关的虚拟机：信息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虚拟机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formation-processing vir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chin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说明：虚拟机和虚拟客体在自然界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类社会中普遍存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实现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mplementation or realizati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和伴生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upervenien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实现—“由上至下”：人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伴生—“由下至上”：进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主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即信息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计算主义是功能主义的一种，故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于虚拟机的计算主义（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M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也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虚拟机功能主义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MF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VMC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优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对人工智能的基础研究而言，实现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只侧重算法到关注机构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转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可以避免传统计算主义或功能主义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些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Slom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类人虚拟机基本机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-CogAff architectu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23:07:14Z</dcterms:created>
  <dc:creator>lqm</dc:creator>
  <dc:description/>
  <dc:language>en-US</dc:language>
  <cp:lastModifiedBy>lqm</cp:lastModifiedBy>
  <dcterms:modified xsi:type="dcterms:W3CDTF">2004-10-25T14:51:32Z</dcterms:modified>
  <cp:revision>22</cp:revision>
  <dc:subject/>
  <dc:title>对基于虚拟机的计算主义 的一些思考</dc:title>
</cp:coreProperties>
</file>