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gif" ContentType="image/gi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39FB-7B6B-4737-A0A3-FD0D9FFB910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B40C-1E55-48FD-95AE-6A4FD36E967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7680" y="631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8768-DFB4-4BA9-BD00-B34FD96ABAD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7680" y="631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57F5-86E2-47AE-9F3D-B460DEDCB1C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48C3-32FC-49B6-8DE0-B270D942E0B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B8AF-A8FA-4701-AF91-F7A4B85127C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9F06-2F1B-4CC6-9D94-09299657232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7680" y="631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999-614E-4611-9705-7B9189E3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940-B4FB-480F-81D9-D8411FAA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555-41DD-4D8D-A9AC-ADA22613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5B2-744A-4F85-8B63-72394BBF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8A6DB-F0C8-43FB-A501-C384646A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AE87C-E114-4B5A-B0FD-39DE883E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8F5CA-41F5-49C2-BCDB-91C121A9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D4EA7-B9D3-482C-A66D-C5DD7A6E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26C10-9B95-4B4C-AB4A-B3E8EFEF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F0F7F-AC9B-4283-83EE-2FCF80A5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F885E-2019-44BF-A0B5-44CE6DCC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D1B-69F1-44CE-8CE0-9B695246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FB472-BCC9-475E-9146-8DA32C95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4925A-5CA2-4E17-86D5-6E2D34DD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83606-028A-4933-9D38-32E4CF41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E58F7-C4B3-4796-8FE3-DD7FE051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A3766-AA26-4A3B-AC9A-73909E5E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4A86-7D96-45DC-92E9-B022F599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4A8B-3F69-4E49-AE3E-5C56B440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1A6-EE99-4686-A5F8-2A2F2309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888-E232-4CE8-8280-55BFEEBB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3F2-361A-4950-BF9C-35E95C0D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BAA-2BDE-4825-B5F0-61778766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BFB-6710-4B98-B52C-16F7D97A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E6B1-0488-405E-818E-A41FDC4360B8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F3AD-FB22-4A49-9DEB-01D79F073FC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1B0F-F560-4C2B-8C7F-3568F6ECD011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2DEB-1B95-46A9-AC1E-FB10B270435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mailto:Shizz@ics.ict.ac.cn" TargetMode="External"/><Relationship Id="rId4" Type="http://schemas.openxmlformats.org/officeDocument/2006/relationships/hyperlink" Target="mailto:Shizz@ics.ict.ac.cn" TargetMode="External"/><Relationship Id="rId5" Type="http://schemas.openxmlformats.org/officeDocument/2006/relationships/hyperlink" Target="mailto:Shizz@ics.ict.ac.cn" TargetMode="External"/><Relationship Id="rId6" Type="http://schemas.openxmlformats.org/officeDocument/2006/relationships/hyperlink" Target="mailto:Shizz@ics.ict.ac.cn" TargetMode="External"/><Relationship Id="rId7" Type="http://schemas.openxmlformats.org/officeDocument/2006/relationships/hyperlink" Target="mailto:Shizz@ics.ict.ac.cn" TargetMode="External"/><Relationship Id="rId8" Type="http://schemas.openxmlformats.org/officeDocument/2006/relationships/hyperlink" Target="mailto:Shizz@ics.ict.ac.cn" TargetMode="External"/><Relationship Id="rId9" Type="http://schemas.openxmlformats.org/officeDocument/2006/relationships/hyperlink" Target="mailto:Shizz@ics.ict.ac.cn" TargetMode="External"/><Relationship Id="rId10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50888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隶书"/>
                <a:ea typeface="隶书"/>
              </a:rPr>
              <a:t>2004</a:t>
            </a:r>
            <a:r>
              <a:rPr b="1" lang="zh-CN" sz="4000" spc="-1" strike="noStrike">
                <a:solidFill>
                  <a:srgbClr val="00ffcc"/>
                </a:solidFill>
                <a:latin typeface="隶书"/>
                <a:ea typeface="隶书"/>
              </a:rPr>
              <a:t>年</a:t>
            </a:r>
            <a:r>
              <a:rPr b="1" lang="zh-CN" sz="4000" spc="-1" strike="noStrike">
                <a:solidFill>
                  <a:srgbClr val="00ffcc"/>
                </a:solidFill>
                <a:latin typeface="Times New Roman"/>
                <a:ea typeface="隶书"/>
              </a:rPr>
              <a:t>人工智能与哲学研讨会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3880" y="182880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0" y="112536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Times New Roman"/>
                <a:ea typeface="华文隶书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智能科学的逻辑问题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史忠植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바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ea typeface="바탕"/>
                <a:hlinkClick r:id="rId3"/>
              </a:rPr>
              <a:t>Shizz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ea typeface="바탕"/>
                <a:hlinkClick r:id="rId4"/>
              </a:rPr>
              <a:t>@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ea typeface="바탕"/>
                <a:hlinkClick r:id="rId5"/>
              </a:rPr>
              <a:t>ics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ea typeface="바탕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ea typeface="바탕"/>
                <a:hlinkClick r:id="rId7"/>
              </a:rPr>
              <a:t>ict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ea typeface="바탕"/>
                <a:hlinkClick r:id="rId8"/>
              </a:rPr>
              <a:t>.ac.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ea typeface="바탕"/>
                <a:hlinkClick r:id="rId9"/>
              </a:rPr>
              <a:t>c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9900"/>
                </a:solidFill>
                <a:latin typeface="Times New Roman"/>
              </a:rPr>
              <a:t>中国科学院计算技术研究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89C-232C-4488-97DC-7ADAA37879B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E3C29-3B45-4BB7-9901-56044922F4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知识发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523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知识发现是从数据集中抽取和精化新的模式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知识发现的范围非常广泛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可以是经济、工业、农业、军事、社会、商业、科学的数据或卫星观测得到的数据。数据的形态有数字、符号、图形、图象、声音等。数据组织方式也各不相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可以是有结构、半结构、非结构的。知识发现的结果可以表示成各种形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包括规则、法则、科学规律、方程或概念网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5E6-DEFA-4078-88E2-7BC69AFFED4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FE38D-C04E-48EA-B83E-E11A288186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知识发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9810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一般说，演绎推理的前提蕴涵结论，前提为真，结论就一定为真。归纳推理的前提与结论之间不具有这种蕴涵关系，归纳推理的结论超出了前提的范围，因而当前提为真时，结论不一定真。归纳逻辑是关于或然性推理的逻辑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DF3-45D6-4E84-A7D4-E0CB46F6E71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47AA5-325D-4EBA-824B-2F7D970671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知识发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9810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正当古典归纳逻辑向前发展的时候，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8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世纪的英国哲学家休谟（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D.Hume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对归纳推理的合理性提出了质疑。休谟提出的问题是：归纳法具有理性的依据吗？如何为归纳法的合理性进行辩护？休谟本人的回答是：为归纳法的合理性进行辩护是不可能的，因此归纳法没有合理性，只不过是人的一种心理本能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72F6-0C25-4718-B26E-A7CF3D4538F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AFE4F-20B3-4589-A8B0-30F39865CB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知识发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13716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192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年，英国著名的经济学家凯恩斯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J. M. Keynes)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将概率理论与归纳逻辑相结合，建立了第一个概率逻辑系统，这标志着现代归纳逻辑的产生。此后，逻辑学家们纷纷提出各自的归纳逻辑系统。现代归纳逻辑的特点是，第一，把概率概念引进归纳逻辑。人们充分认识到归纳推理的或然性，试图从量上刻画这种或然性，很自然地采用了概率概念。现代归纳逻辑的研究几乎都是结合概率、统计理论进行的。第二，不再把归纳看作发现和证明普遍性命题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规律、定律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的活动，而把它看作检验假说的活动。归纳法的职能不是发现全称命题更不能证明它，归纳法主要是通过检验来决定一个假说是否可被接受。第三，数理逻辑即现代演绎逻辑的方法对归纳逻辑的研究产生很大影响，公理化形式化的方法被引入归纳逻辑的研究，产生了许多不同类型的形式化的归纳逻辑系统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BA5-588F-4421-A7D5-2723E38B2F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F2EA2-6F9E-4DAE-84A5-5CE3E7D870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知识发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3716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本世纪二、三十年代以后，随着数学概率论趋于成熟，概率归纳逻辑得以产生和发展。概率归纳逻辑是应用概率论来系统地研究和表述或然性推理的。本世纪七十年代前后，出现了一种非数学概率论的归纳逻辑理论，这种理论也被称为“非帕斯卡概率归纳逻辑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8E3-3466-449A-AC83-CEE73442040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CF8E2-45B8-4446-8631-52E5465483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知识发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828800"/>
            <a:ext cx="830592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经验主义概率归纳逻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逻辑贝叶斯派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主观贝叶斯派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条件化归纳逻辑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非帕斯卡概率归纳逻辑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161-D07A-4E41-9976-EBE30858969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E347A-70D5-471A-9F7F-D62829A600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语义</a:t>
            </a:r>
            <a:r>
              <a:rPr b="1" lang="en-GB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 </a:t>
            </a:r>
            <a:r>
              <a:rPr b="1" lang="en-GB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Web</a:t>
            </a: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56000" y="3286080"/>
            <a:ext cx="223200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tology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ngu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60720" y="4149720"/>
            <a:ext cx="35272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nowledge Re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4797360"/>
            <a:ext cx="2810160" cy="368280"/>
          </a:xfrm>
          <a:prstGeom prst="rect">
            <a:avLst/>
          </a:prstGeom>
          <a:solidFill>
            <a:srgbClr val="cc9900"/>
          </a:solidFill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92720" y="4797360"/>
            <a:ext cx="2160720" cy="368280"/>
          </a:xfrm>
          <a:prstGeom prst="rect">
            <a:avLst/>
          </a:prstGeom>
          <a:solidFill>
            <a:srgbClr val="cc9900"/>
          </a:solidFill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Namesp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63640" y="5229360"/>
            <a:ext cx="3816360" cy="368280"/>
          </a:xfrm>
          <a:prstGeom prst="rect">
            <a:avLst/>
          </a:prstGeom>
          <a:solidFill>
            <a:srgbClr val="e3e3ff"/>
          </a:solidFill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U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53080" y="5229360"/>
            <a:ext cx="1800360" cy="368280"/>
          </a:xfrm>
          <a:prstGeom prst="rect">
            <a:avLst/>
          </a:prstGeom>
          <a:solidFill>
            <a:srgbClr val="e3e3ff"/>
          </a:solidFill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Uni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661080" y="2204640"/>
            <a:ext cx="800280" cy="2521080"/>
            <a:chOff x="6661080" y="2204640"/>
            <a:chExt cx="800280" cy="2521080"/>
          </a:xfrm>
        </p:grpSpPr>
        <p:sp>
          <p:nvSpPr>
            <p:cNvPr id="183" name=""/>
            <p:cNvSpPr/>
            <p:nvPr/>
          </p:nvSpPr>
          <p:spPr>
            <a:xfrm rot="16200000">
              <a:off x="5584680" y="3281040"/>
              <a:ext cx="2521080" cy="36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3e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200000">
              <a:off x="6016680" y="3281040"/>
              <a:ext cx="2521080" cy="368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e3e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Encryp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003640" y="2637000"/>
            <a:ext cx="15843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e3e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53080" y="2205000"/>
            <a:ext cx="9349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e3e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00720" y="1773360"/>
            <a:ext cx="11509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e3e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619280" y="3141360"/>
            <a:ext cx="4968720" cy="637200"/>
            <a:chOff x="1619280" y="3141360"/>
            <a:chExt cx="4968720" cy="637200"/>
          </a:xfrm>
        </p:grpSpPr>
        <p:sp>
          <p:nvSpPr>
            <p:cNvPr id="189" name=""/>
            <p:cNvSpPr/>
            <p:nvPr/>
          </p:nvSpPr>
          <p:spPr>
            <a:xfrm>
              <a:off x="1763640" y="3141720"/>
              <a:ext cx="48243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19280" y="350208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the state of the art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411280" y="3141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059280" y="4149720"/>
            <a:ext cx="35272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D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8360" y="3716280"/>
            <a:ext cx="287964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DF Sche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3284640"/>
            <a:ext cx="223200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W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991-462E-4B09-BB56-BDEA8C4A2F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05D00-F403-40B6-AEA9-49FDEB41E7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                 </a:t>
            </a:r>
            <a:r>
              <a:rPr b="0" lang="zh-CN" sz="5400" spc="-1" strike="noStrike">
                <a:solidFill>
                  <a:srgbClr val="e3e3ff"/>
                </a:solidFill>
                <a:latin typeface="Arial"/>
                <a:ea typeface="华文新魏"/>
              </a:rPr>
              <a:t>语义网格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19280" y="1413000"/>
          <a:ext cx="5313240" cy="43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13000"/>
                    <a:ext cx="531324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0A2B-8884-4828-B1F6-623086BE4A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6AD5F-90D0-44CC-B656-D6A6E26B8D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共享概念模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600200"/>
            <a:ext cx="830556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概念模型（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conceptualization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通过抽象出客观世界中一些现象（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Phenomenon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的相关概念而得到的模型，其表示的含义独立于具体的环境状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明确（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explicit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所使用的概念及使用这些概念的约束都有明确的定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形式化（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formal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ntology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是计算机可读的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共享（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share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ntology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中体现的是共同认可的知识，反映的是相关领域中公认的概念集，它所针对的是团体而不是个体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9B8-673E-40DF-B83B-00329B2CD23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8B62D-6297-4D34-9641-B749221BC9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本体</a:t>
            </a:r>
            <a:r>
              <a:rPr b="1" lang="en-US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Ontolog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1828800"/>
            <a:ext cx="830556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ners-Lee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于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000-12-18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2000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的会议上正式提出了语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语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的目标是使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的信息具有计算机可以理解的语义，满足智能软件代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)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异构和分布信息的有效访问和搜索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ners-Lee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为未来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发展提出了基于语义的体系结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语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系结构。该体系中从底层到高层分别为 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CODE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tolog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9A8B-EF55-4FC2-8CCF-227D28DDBEE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30CD7-5403-4002-A352-72E2048328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158400"/>
            <a:ext cx="779292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cc"/>
                </a:solidFill>
                <a:latin typeface="Times New Roman"/>
              </a:rPr>
              <a:t>内容提要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523880"/>
            <a:ext cx="698508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</a:rPr>
              <a:t>引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</a:rPr>
              <a:t>知识表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</a:rPr>
              <a:t>知识发现</a:t>
            </a:r>
            <a:r>
              <a:rPr b="1" lang="en-US" sz="32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</a:rPr>
              <a:t>知识共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</a:rPr>
              <a:t>心智社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Black"/>
              </a:rPr>
              <a:t>结束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1B7-3CA1-45CB-8018-F299E34F9BF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6D333-3CD1-41E3-8F0E-88981F587A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本体</a:t>
            </a:r>
            <a:r>
              <a:rPr b="1" lang="en-US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Ontology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828800"/>
            <a:ext cx="830556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ners-Lee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于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000-12-18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2000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的会议上正式提出了语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[24 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语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的目标是使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的信息具有计算机可以理解的语义，满足智能软件代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)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异构和分布信息的有效访问和搜索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ners-Lee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为未来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发展提出了基于语义的体系结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语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系结构。该体系中从底层到高层分别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[25 ]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CODE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tolog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017-67C0-4A23-96A7-681F09C8EB6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71652-9284-496E-A224-458260A221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动态描述逻辑</a:t>
            </a:r>
            <a:r>
              <a:rPr b="1" lang="en-US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D</a:t>
            </a:r>
            <a:r>
              <a:rPr b="1" lang="en-GB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DL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48360" y="4724280"/>
            <a:ext cx="4267080" cy="46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11970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ept nam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le nam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ividual constan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ividual variabl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ept operatio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⊔,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xiom operatio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∧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io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ion constractio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omposition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⋃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lternation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repeat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est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ion variabl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PMingLiU"/>
              </a:rPr>
              <a:t>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PMingLiU"/>
              </a:rPr>
              <a:t>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xiom variabl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i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π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te variabl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640-8672-4CB0-B030-E50BB320580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4B8DA-A907-492C-8F8A-5E040D858A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心智社会</a:t>
            </a:r>
            <a:r>
              <a:rPr b="1" lang="zh-CN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(</a:t>
            </a:r>
            <a:r>
              <a:rPr b="1" lang="en-IE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Society of Mind)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04920" y="3809880"/>
            <a:ext cx="3200400" cy="2667240"/>
            <a:chOff x="304920" y="3809880"/>
            <a:chExt cx="3200400" cy="2667240"/>
          </a:xfrm>
        </p:grpSpPr>
        <p:sp>
          <p:nvSpPr>
            <p:cNvPr id="209" name=""/>
            <p:cNvSpPr/>
            <p:nvPr/>
          </p:nvSpPr>
          <p:spPr>
            <a:xfrm>
              <a:off x="990720" y="3809880"/>
              <a:ext cx="91440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World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95280" y="4952880"/>
              <a:ext cx="91440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Mind</a:t>
              </a:r>
              <a:r>
                <a:rPr b="1" lang="en-IE" sz="1800" spc="-1" strike="noStrike" baseline="-25000">
                  <a:solidFill>
                    <a:srgbClr val="003399"/>
                  </a:solidFill>
                  <a:latin typeface="Times New Roman"/>
                </a:rPr>
                <a:t>M</a:t>
              </a: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4920" y="6095880"/>
              <a:ext cx="91440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Mi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7920" y="6095880"/>
              <a:ext cx="91440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Mi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90920" y="6095880"/>
              <a:ext cx="91440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Mi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09480" y="5334120"/>
              <a:ext cx="1143000" cy="8380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1752480" y="5334120"/>
              <a:ext cx="152640" cy="76176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1828440" y="5334120"/>
              <a:ext cx="1523880" cy="8380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1371600" y="4191120"/>
              <a:ext cx="380880" cy="761760"/>
            </a:xfrm>
            <a:prstGeom prst="line">
              <a:avLst/>
            </a:prstGeom>
            <a:ln w="38160">
              <a:solidFill>
                <a:srgbClr val="3399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267080" y="3809880"/>
            <a:ext cx="3200400" cy="2667240"/>
            <a:chOff x="4267080" y="3809880"/>
            <a:chExt cx="3200400" cy="2667240"/>
          </a:xfrm>
        </p:grpSpPr>
        <p:sp>
          <p:nvSpPr>
            <p:cNvPr id="219" name=""/>
            <p:cNvSpPr/>
            <p:nvPr/>
          </p:nvSpPr>
          <p:spPr>
            <a:xfrm>
              <a:off x="5638680" y="3809880"/>
              <a:ext cx="91440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World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57800" y="4952880"/>
              <a:ext cx="91440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Mind</a:t>
              </a:r>
              <a:r>
                <a:rPr b="1" lang="en-IE" sz="1800" spc="-1" strike="noStrike" baseline="-25000">
                  <a:solidFill>
                    <a:srgbClr val="003399"/>
                  </a:solidFill>
                  <a:latin typeface="Times New Roman"/>
                </a:rPr>
                <a:t>M</a:t>
              </a: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6095880"/>
              <a:ext cx="91440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Mi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10080" y="6095880"/>
              <a:ext cx="91440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Mi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53080" y="6095880"/>
              <a:ext cx="91440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Mi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572000" y="5334120"/>
              <a:ext cx="1143000" cy="8380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5714640" y="5334120"/>
              <a:ext cx="152280" cy="76176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5790960" y="5334120"/>
              <a:ext cx="1523880" cy="8380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715000" y="4191120"/>
              <a:ext cx="380880" cy="761760"/>
            </a:xfrm>
            <a:prstGeom prst="line">
              <a:avLst/>
            </a:prstGeom>
            <a:ln w="38160">
              <a:solidFill>
                <a:srgbClr val="3399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828800" y="3200400"/>
            <a:ext cx="3886200" cy="1752480"/>
            <a:chOff x="1828800" y="3200400"/>
            <a:chExt cx="3886200" cy="1752480"/>
          </a:xfrm>
        </p:grpSpPr>
        <p:sp>
          <p:nvSpPr>
            <p:cNvPr id="229" name=""/>
            <p:cNvSpPr/>
            <p:nvPr/>
          </p:nvSpPr>
          <p:spPr>
            <a:xfrm>
              <a:off x="2895480" y="3200400"/>
              <a:ext cx="1295640" cy="380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Mind</a:t>
              </a:r>
              <a:r>
                <a:rPr b="1" lang="en-IE" sz="1800" spc="-1" strike="noStrike" baseline="-25000">
                  <a:solidFill>
                    <a:srgbClr val="003399"/>
                  </a:solidFill>
                  <a:latin typeface="Times New Roman"/>
                </a:rPr>
                <a:t>M</a:t>
              </a: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 A+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828800" y="3581280"/>
              <a:ext cx="1676520" cy="137160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3505320" y="3581280"/>
              <a:ext cx="2209680" cy="137160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819520" y="1905120"/>
            <a:ext cx="5105160" cy="1447560"/>
            <a:chOff x="2819520" y="1905120"/>
            <a:chExt cx="5105160" cy="1447560"/>
          </a:xfrm>
        </p:grpSpPr>
        <p:sp>
          <p:nvSpPr>
            <p:cNvPr id="233" name=""/>
            <p:cNvSpPr/>
            <p:nvPr/>
          </p:nvSpPr>
          <p:spPr>
            <a:xfrm>
              <a:off x="2819520" y="1905120"/>
              <a:ext cx="1218960" cy="380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World A+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5720" y="2209680"/>
              <a:ext cx="1218960" cy="381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34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3399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4038120" y="2057040"/>
              <a:ext cx="2667240" cy="30492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190760" y="2362320"/>
              <a:ext cx="2514600" cy="99036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A34-6171-4F13-AE61-38B082FED45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2C43B-CCC5-4D28-8349-C77DA6159A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主体基本结构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523880"/>
            <a:ext cx="7467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2438280"/>
            <a:ext cx="2362320" cy="228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环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62720" y="3124080"/>
            <a:ext cx="2438280" cy="10670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主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33526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505320" y="388620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33920" y="289548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感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380988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作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49528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黑箱软件主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924-04E3-40C1-AEAE-D16A79AA848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795B1-DDA6-4949-A0EF-E24C785F19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智能主体的工作过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1219320"/>
            <a:ext cx="7467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2743200"/>
            <a:ext cx="1904760" cy="1752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环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1828800"/>
            <a:ext cx="175284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交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2743200"/>
            <a:ext cx="1981080" cy="609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信息融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3657600"/>
            <a:ext cx="1981080" cy="609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信息处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4495680"/>
            <a:ext cx="1981080" cy="609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作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81480" y="5486400"/>
            <a:ext cx="175284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交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19920" y="23623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352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19920" y="4191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19920" y="5105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1676520"/>
            <a:ext cx="2361960" cy="45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362320" y="2133360"/>
            <a:ext cx="281916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2438280" y="4495320"/>
            <a:ext cx="27432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190512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感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495288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作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F37-65CD-432E-806B-4B5741AD2F9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D6C45-F14E-4356-9911-E96BCC5213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反应主体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1523880"/>
            <a:ext cx="7467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1981080"/>
            <a:ext cx="5257800" cy="3200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67480" y="1905120"/>
            <a:ext cx="990720" cy="3352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2743200"/>
            <a:ext cx="17524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当前世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20574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传感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86200" y="3809880"/>
            <a:ext cx="17524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动    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800240" y="220968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2209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3276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00600" y="495288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006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441972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效应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3657600"/>
            <a:ext cx="1752480" cy="1066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动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规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4191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98108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主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03B8-1074-42FD-8445-59044906B76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82474-62CB-4E70-8456-8BD684778E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认知主体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1523880"/>
            <a:ext cx="7467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981080"/>
            <a:ext cx="5257800" cy="41911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1905120"/>
            <a:ext cx="990720" cy="4419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2743200"/>
            <a:ext cx="17524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信息融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20574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传感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4876920"/>
            <a:ext cx="17524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动    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800240" y="220968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0600" y="2209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3276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601992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0060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8320" y="54864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效应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95480" y="41148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198108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主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3809880"/>
            <a:ext cx="17524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规    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4343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3809880"/>
            <a:ext cx="17524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知识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95480" y="51814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3000" y="4876920"/>
            <a:ext cx="17524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目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95480" y="3048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2743200"/>
            <a:ext cx="17524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内部状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7324-5034-42A2-81D3-6690CA6FA5A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22A64-689C-4521-9B7B-BA2BEB9A6F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华文新魏"/>
                <a:ea typeface="华文新魏"/>
              </a:rPr>
              <a:t>BDI</a:t>
            </a:r>
            <a:r>
              <a:rPr b="1" lang="zh-CN" sz="5400" spc="-1" strike="noStrike">
                <a:solidFill>
                  <a:srgbClr val="33cccc"/>
                </a:solidFill>
                <a:latin typeface="华文新魏"/>
                <a:ea typeface="华文新魏"/>
              </a:rPr>
              <a:t>结构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1523880"/>
            <a:ext cx="7467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2209680"/>
            <a:ext cx="609840" cy="281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2209680"/>
            <a:ext cx="609480" cy="281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20120" y="2209680"/>
            <a:ext cx="609480" cy="281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3200400"/>
            <a:ext cx="22860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意    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57600" y="2743200"/>
            <a:ext cx="281952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52680" y="2209680"/>
            <a:ext cx="3353040" cy="281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25909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目    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67080" y="21337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愿    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3352680"/>
            <a:ext cx="457200" cy="609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095880" y="2437920"/>
            <a:ext cx="15242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3657600"/>
            <a:ext cx="152424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36576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14600" y="3657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4648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90C-3CE1-4EE2-AD88-80280A68B14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166E3-8FEA-49B6-9D4A-9EE3D63C5F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BDI </a:t>
            </a:r>
            <a:r>
              <a:rPr b="1" lang="zh-CN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解释器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DI-interpr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ize-state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ons := option-gen (event-queue, B, G, I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ed-options := deliberate (options, B, G, I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ate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n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selected-options, I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e (I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-queue := get-new-events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-successful-attitudes (B, G, I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-impossible-attitudes (B, G, I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i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qu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705360" y="2133720"/>
            <a:ext cx="15228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75560" y="1371600"/>
            <a:ext cx="25520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Beliefs, desires (goals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nd 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2600" y="4572000"/>
            <a:ext cx="201852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atisfied 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un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beliefs, goals,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6248160" y="510552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995D-F176-4C3C-9566-1E8D9B5B857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DBB42-5635-4551-9613-6949A707EA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形式化规范方法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057400"/>
            <a:ext cx="8305920" cy="25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形式定义主体系统需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主体系统是一个意图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75A-1B76-40F4-A991-C3A1BD2B6F6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B41B1-86C7-4FAD-B104-A6B9B52D15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宋体"/>
                <a:ea typeface="华文新魏"/>
              </a:rPr>
              <a:t>人工智能的</a:t>
            </a: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五个基本问题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21000" y="139716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1000" y="139716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0" y="1752480"/>
            <a:ext cx="9144000" cy="42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Kirsh 1991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年指出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1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与概念化是否是人工智能的核心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能力能否与载体分开来研究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3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的轨迹是否可用类自然语言来描述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4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能力能否与认知分开来研究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5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所有的认知是否有一种统一的结构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989-2C06-4462-9AD5-406AC596C74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A1B80-42EB-4A63-8B3B-0365C35AB0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形式化对象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905120" y="1600200"/>
            <a:ext cx="5867280" cy="45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3996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信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目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规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协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动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交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717F-6EC1-4340-BAF1-588388347D6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D90D9-4221-4551-821D-C98D74111C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形式化规范方法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2057400"/>
            <a:ext cx="7467480" cy="38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逻辑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–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时序模态逻辑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2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种模型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oehn-Levesque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意图理论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Rao-Georgeff BDI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模型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9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9A1F-BEA3-4B7E-964D-4C748038B9C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F1923-559E-496C-B40C-A2E2ED3530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多主体环境</a:t>
            </a:r>
            <a:r>
              <a:rPr b="1" lang="en-US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 </a:t>
            </a:r>
            <a:r>
              <a:rPr b="1" lang="en-US" sz="5400" spc="-1" strike="noStrike">
                <a:solidFill>
                  <a:srgbClr val="00ffcc"/>
                </a:solidFill>
                <a:latin typeface="华文新魏"/>
                <a:ea typeface="华文新魏"/>
              </a:rPr>
              <a:t>MAGE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332000" y="1773360"/>
            <a:ext cx="542880" cy="3504960"/>
          </a:xfrm>
          <a:prstGeom prst="rect">
            <a:avLst/>
          </a:prstGeom>
          <a:noFill/>
          <a:ln w="5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4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quirement Ana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41480" y="35370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73280" y="2306520"/>
            <a:ext cx="542880" cy="2362320"/>
          </a:xfrm>
          <a:prstGeom prst="rect">
            <a:avLst/>
          </a:prstGeom>
          <a:noFill/>
          <a:ln w="5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4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60800" y="352584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22560" y="2001960"/>
            <a:ext cx="3468960" cy="2971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ystem Develo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51160" y="2459160"/>
            <a:ext cx="543240" cy="2361960"/>
          </a:xfrm>
          <a:prstGeom prst="rect">
            <a:avLst/>
          </a:prstGeom>
          <a:solidFill>
            <a:srgbClr val="ffffff"/>
          </a:solidFill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400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ehaviour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8800" y="2535120"/>
            <a:ext cx="542880" cy="2210040"/>
          </a:xfrm>
          <a:prstGeom prst="rect">
            <a:avLst/>
          </a:prstGeom>
          <a:solidFill>
            <a:srgbClr val="ffffff"/>
          </a:solidFill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400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gent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13480" y="2459160"/>
            <a:ext cx="528840" cy="2286000"/>
          </a:xfrm>
          <a:prstGeom prst="rect">
            <a:avLst/>
          </a:prstGeom>
          <a:solidFill>
            <a:srgbClr val="ffffff"/>
          </a:solidFill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400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gent Socie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61000" y="36021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04000" y="3602160"/>
            <a:ext cx="60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400880" y="3537000"/>
            <a:ext cx="560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37360" y="2230560"/>
            <a:ext cx="543240" cy="2666880"/>
          </a:xfrm>
          <a:prstGeom prst="rect">
            <a:avLst/>
          </a:prstGeom>
          <a:noFill/>
          <a:ln w="5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4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ystem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2243160" y="4824000"/>
            <a:ext cx="298440" cy="1219320"/>
          </a:xfrm>
          <a:custGeom>
            <a:avLst/>
            <a:gdLst>
              <a:gd name="textAreaLeft" fmla="*/ 190800 w 298440"/>
              <a:gd name="textAreaRight" fmla="*/ 298800 w 2984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5431680" y="3690000"/>
            <a:ext cx="403200" cy="3494160"/>
          </a:xfrm>
          <a:custGeom>
            <a:avLst/>
            <a:gdLst>
              <a:gd name="textAreaLeft" fmla="*/ 257760 w 403200"/>
              <a:gd name="textAreaRight" fmla="*/ 403560 w 403200"/>
              <a:gd name="textAreaTop" fmla="*/ 91080 h 3494160"/>
              <a:gd name="textAreaBottom" fmla="*/ 3403080 h 349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8101800" y="5083920"/>
            <a:ext cx="309600" cy="457200"/>
          </a:xfrm>
          <a:custGeom>
            <a:avLst/>
            <a:gdLst>
              <a:gd name="textAreaLeft" fmla="*/ 198000 w 309600"/>
              <a:gd name="textAreaRight" fmla="*/ 309960 w 309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47640" y="57340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U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16360" y="5734080"/>
            <a:ext cx="181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VAStu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265880" y="5734080"/>
            <a:ext cx="18781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AGE Running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B50-6309-4C31-B61D-EA0EFB1E23B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11A03-6586-494A-A57E-7E95720F49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cc"/>
                </a:solidFill>
                <a:latin typeface="Arial"/>
              </a:rPr>
              <a:t>结束语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1440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01"/>
              </a:spcBef>
              <a:buClr>
                <a:srgbClr val="33cc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逻辑是智能科学的重要基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33cc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隶书"/>
              </a:rPr>
              <a:t>我国必须积极开展符号逻辑的研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694B-F00F-4CAE-B4AB-2515AE62557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FFE3D-1383-4395-AA94-4806BD1A6E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6624720" cy="9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谢   谢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!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828800" y="1824120"/>
            <a:ext cx="5349960" cy="29113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547640" y="4869000"/>
            <a:ext cx="64771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98800" y="4708440"/>
            <a:ext cx="567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QUESTIONS</a:t>
            </a:r>
            <a:r>
              <a:rPr b="1" lang="zh-CN" sz="6000" spc="-1" strike="noStrike">
                <a:solidFill>
                  <a:srgbClr val="ff0000"/>
                </a:solidFill>
                <a:latin typeface="Tahoma"/>
              </a:rPr>
              <a:t>！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D7C5-6F30-4FAD-BEA6-AD96889FB50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A444F-9E3B-417B-9F38-C20BC83C67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人工智能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21000" y="139716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1000" y="139716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228600" y="1828800"/>
            <a:ext cx="8915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符号主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连接主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行为主义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31B-4C18-4BF5-BE82-58DC9F9FE26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44D61-4EF6-4469-9EDB-9FC209E4F6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6000" spc="-1" strike="noStrike">
                <a:solidFill>
                  <a:srgbClr val="00ffcc"/>
                </a:solidFill>
                <a:latin typeface="华文新魏"/>
                <a:ea typeface="华文新魏"/>
              </a:rPr>
              <a:t>科学发展大趋势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7016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068560"/>
            <a:ext cx="876312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 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世纪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智能科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Romans"/>
              </a:rPr>
              <a:t>智能科学是一门交叉学科，主要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Romans"/>
              </a:rPr>
              <a:t>        </a:t>
            </a:r>
            <a:r>
              <a:rPr b="1" lang="en-U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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Romans"/>
              </a:rPr>
              <a:t>脑科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Romans"/>
              </a:rPr>
              <a:t>        </a:t>
            </a:r>
            <a:r>
              <a:rPr b="1" lang="en-U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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Romans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Romans"/>
              </a:rPr>
              <a:t>认知科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Romans"/>
              </a:rPr>
              <a:t>        </a:t>
            </a:r>
            <a:r>
              <a:rPr b="1" lang="en-U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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Romans"/>
              </a:rPr>
              <a:t>人工智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Romans"/>
              </a:rPr>
              <a:t>      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Romans"/>
              </a:rPr>
              <a:t>等学科共同研究智能行为的基本理论和实现技术。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Romans"/>
              </a:rPr>
              <a:t>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5CA-EF0E-47A6-8C58-93B1A93E460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36617-BCDA-497A-8ADC-07D2B1F5BC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智能科学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7016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1162080"/>
            <a:ext cx="15242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46341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003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智能不仅要功能模拟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而且要机理模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1504800"/>
            <a:ext cx="7924320" cy="5354640"/>
            <a:chOff x="1219320" y="1504800"/>
            <a:chExt cx="7924320" cy="535464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219320" y="1504800"/>
              <a:ext cx="5203800" cy="41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 txBox="1"/>
            <p:nvPr/>
          </p:nvSpPr>
          <p:spPr>
            <a:xfrm>
              <a:off x="1784880" y="5667480"/>
              <a:ext cx="4390200" cy="73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Actions from thoughts 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6918120" y="1688760"/>
              <a:ext cx="2225520" cy="3773880"/>
              <a:chOff x="6918120" y="1688760"/>
              <a:chExt cx="2225520" cy="3773880"/>
            </a:xfrm>
          </p:grpSpPr>
          <p:pic>
            <p:nvPicPr>
              <p:cNvPr id="1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311240" y="1688760"/>
                <a:ext cx="1256040" cy="140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18120" y="2974320"/>
                <a:ext cx="2225520" cy="248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7773120" y="2974320"/>
                <a:ext cx="134640" cy="416160"/>
              </a:xfrm>
              <a:custGeom>
                <a:avLst/>
                <a:gdLst/>
                <a:ahLst/>
                <a:rect l="l" t="t" r="r" b="b"/>
                <a:pathLst>
                  <a:path w="52" h="182">
                    <a:moveTo>
                      <a:pt x="28" y="0"/>
                    </a:moveTo>
                    <a:cubicBezTo>
                      <a:pt x="0" y="41"/>
                      <a:pt x="14" y="7"/>
                      <a:pt x="28" y="63"/>
                    </a:cubicBezTo>
                    <a:cubicBezTo>
                      <a:pt x="38" y="102"/>
                      <a:pt x="52" y="182"/>
                      <a:pt x="52" y="182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7907040" y="2983680"/>
                <a:ext cx="86760" cy="406800"/>
              </a:xfrm>
              <a:custGeom>
                <a:avLst/>
                <a:gdLst/>
                <a:ahLst/>
                <a:rect l="l" t="t" r="r" b="b"/>
                <a:pathLst>
                  <a:path w="29" h="158">
                    <a:moveTo>
                      <a:pt x="5" y="0"/>
                    </a:moveTo>
                    <a:cubicBezTo>
                      <a:pt x="13" y="18"/>
                      <a:pt x="29" y="35"/>
                      <a:pt x="29" y="55"/>
                    </a:cubicBezTo>
                    <a:cubicBezTo>
                      <a:pt x="29" y="70"/>
                      <a:pt x="8" y="79"/>
                      <a:pt x="5" y="94"/>
                    </a:cubicBezTo>
                    <a:cubicBezTo>
                      <a:pt x="0" y="115"/>
                      <a:pt x="5" y="137"/>
                      <a:pt x="5" y="158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1602000" y="6338880"/>
              <a:ext cx="487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3e3ff"/>
                  </a:solidFill>
                  <a:latin typeface="Times New Roman"/>
                </a:rPr>
                <a:t>( </a:t>
              </a:r>
              <a:r>
                <a:rPr b="1" lang="en-US" sz="2800" spc="-1" strike="noStrike">
                  <a:solidFill>
                    <a:srgbClr val="e3e3ff"/>
                  </a:solidFill>
                  <a:latin typeface="Times New Roman"/>
                </a:rPr>
                <a:t>Nature </a:t>
              </a:r>
              <a:r>
                <a:rPr b="1" lang="en-US" sz="2800" spc="-1" strike="noStrike">
                  <a:solidFill>
                    <a:srgbClr val="e3e3ff"/>
                  </a:solidFill>
                  <a:latin typeface="Times New Roman"/>
                  <a:ea typeface="隶书"/>
                </a:rPr>
                <a:t>409, 2001</a:t>
              </a:r>
              <a:r>
                <a:rPr b="1" lang="en-US" sz="2800" spc="-1" strike="noStrike">
                  <a:solidFill>
                    <a:srgbClr val="e3e3ff"/>
                  </a:solidFill>
                  <a:latin typeface="Times New Roman"/>
                </a:rPr>
                <a:t> )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339-00DD-4FCF-BD9F-5B3F89063D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E20C2-4AFC-4C95-B669-007DE600C0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371600"/>
            <a:ext cx="914400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知识表示问题——也就是如何最佳地捕捉智能行为的关键特征以供在计算机上使用，或者说以供与人交流——一直是人工智能的一个永恒主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知识表示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A4E-C404-4F9A-A9E3-4DE794403C3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4B340-C04C-4C73-823E-6295E6E57D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问题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523880"/>
            <a:ext cx="723888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不确定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不完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动态行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有效推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可塑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同构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78C-5657-46FA-9E0D-EDFEAA6EBA7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D9390-8766-46D0-9155-0376B916C7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19320" y="1905120"/>
            <a:ext cx="678168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命题逻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阶谓词逻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模态逻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模糊逻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动态逻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时序逻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新魏"/>
              </a:rPr>
              <a:t>逻辑是重要的知识表示语言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史忠植 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3B2-2F4C-4024-9CDB-58C55109C9C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A35C5-9A2E-4E95-B205-8172998AD3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11:05:51Z</dcterms:created>
  <dc:creator>l</dc:creator>
  <dc:description/>
  <dc:language>en-US</dc:language>
  <cp:lastModifiedBy>shi</cp:lastModifiedBy>
  <dcterms:modified xsi:type="dcterms:W3CDTF">2004-11-01T13:16:00Z</dcterms:modified>
  <cp:revision>246</cp:revision>
  <dc:subject/>
  <dc:title>网络数据采掘分析器 WebMiner</dc:title>
</cp:coreProperties>
</file>