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B3D-5CBC-4613-903D-6E10F24A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2F5-B6A7-453F-8FF5-CFF2FFDF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0E7-594C-4886-976E-DD433063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346-7378-4138-A469-3845F370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16BF-3291-4AC2-9A1B-E9AD7CA6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253C-5A05-4BF7-B410-8BF93B98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7715-F8A6-48E7-9655-FB850AAF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A01F-3519-463F-89DA-B1E9ACE0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22D8-8FC5-4EB6-B510-4D56091A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5D55-8566-407C-922A-B5B3ED53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E18C-6CDE-48D6-8E0E-45A33C30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626-E46E-41DE-82E0-977272DE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C651-F0C4-42A9-9FB0-DB87FD78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FDBB-BD06-4A58-A966-28CEC54B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F06E-88AF-448A-8775-22534297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23E9-7EAC-4A7D-8C75-58C3DCA4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E54C-0E88-41A8-A04C-3DDF8EDA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8B2-E4E7-40E7-97CF-8F9B99C2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A43-8DCD-4C1A-8C55-2EDD380B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C34-2C25-481B-9DF3-B0E509BC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B86-4CDD-46A5-A914-789B125B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2F5-B16F-4CD6-B68A-30DE340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4F7-24A2-48F2-BBE5-515B326F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3B2-0138-4729-9746-B8E9F525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6A7A-8C8C-41B9-92F6-B9997464ED5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9FE5-0A1C-4138-907D-32ADD6A701F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00"/>
                </a:solidFill>
                <a:latin typeface="Arial"/>
                <a:ea typeface="华文新魏"/>
              </a:rPr>
              <a:t>关于意图与行动的哲学思考</a:t>
            </a:r>
            <a:endParaRPr b="0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560" y="2565360"/>
            <a:ext cx="676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朱     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中国科学院研究生院人文学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北京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0004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jingzhu@gscas.ac.c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82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做计划是人特有的理性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是认知资源有限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H. A. Simo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是有理性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在行动前需要未雨绸缪，三思而行，而不能总是临时抱佛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所以，人需要做计划，让当前的思索、决策能够有效地指导、影响未来的思考和行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计划与意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计划的流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1916280"/>
            <a:ext cx="2520720" cy="936360"/>
          </a:xfrm>
          <a:prstGeom prst="roundRect">
            <a:avLst>
              <a:gd name="adj" fmla="val 16667"/>
            </a:avLst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慎思（构思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比较、权衡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3500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决策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/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选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941720"/>
            <a:ext cx="1800360" cy="648000"/>
          </a:xfrm>
          <a:prstGeom prst="roundRect">
            <a:avLst>
              <a:gd name="adj" fmla="val 16667"/>
            </a:avLst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意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1341360"/>
            <a:ext cx="0" cy="57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2924280"/>
            <a:ext cx="0" cy="57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4221000"/>
            <a:ext cx="0" cy="72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5589720"/>
            <a:ext cx="0" cy="57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5300640"/>
            <a:ext cx="93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2276640"/>
            <a:ext cx="0" cy="30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2276640"/>
            <a:ext cx="433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748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计划的若干特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一个计划不一定是完整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一个计划不一定是很具体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一个理性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不应该随意抛弃一个制定好的计划，也不应该死抱着一个计划不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与计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Intentions are building blocks of plans, and plans are intentions writ l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的稳定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在各方面情况没有发生重大变化的情况下，一个理性的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通常不会改变其意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与承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公开承诺与（内在）心理承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与实践推理和行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为随后的推理和行动提供了一个背景框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的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为认知资源有限的理性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有效、合理、有序地安排自己的活动提供了一种便捷、可靠的推理模式和基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gen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之间进行合作与协调提供了共享的概念与认知基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与合理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意图的形成，意图的保持、更新与放弃，意图与信念，集体意图（多主体意图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人工智能与哲学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Minds and Mach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Synthese : Special Section on Rationality, Knowledge, and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Kluwer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谢谢大家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意图与常识心理学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常识心理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folk psychology,  commonsense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们用于理解、解释和预测他人的心理状态和过程以及行为的一整套理论、方法和技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常识心理学的一些基本“理论”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信念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belief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愿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desire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希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wish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决策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decision)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情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emotion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个性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ersonality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640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是常识心理学的基本概念之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他有意（打算、准备、故意）做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他的真实意图是……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项庄舞剑，意在沛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他这么做是故意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他完全是无意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理解意图与蓄意行为的意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行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action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与行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behavior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的区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道德职责和法律责任的归咎与判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如故意伤害，故意杀人，过失杀人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意图成为哲学反思的对象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sabeth Anscombe (1920~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7,  Basil Black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,  Cornell University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0,  Harvard University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353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ld Davidson (1922~200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, “Actions, Reasons, and Caus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 + Des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292428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357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R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292428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28464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99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653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问题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ure intention, intending to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是人的心理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与信念、愿望等一样，意图是人的心理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Robert Au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Gilbert Ha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Michael Brat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Michael Rob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Hugh McC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lfred M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  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意图的本体论地位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三种看法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630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并不存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Anscombe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早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Davidson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维特根斯坦追随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存在，但可以还原（化约）为信念与愿望的组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Robert Audi, Wayne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意图存在，且不可以还原为信念与愿望，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rational age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的一类特殊的心理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当代大多数行动哲学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意图与其它领域的研究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91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伦理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契约论传统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David Gauthi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Thomas Scan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心理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发展（儿童）心理学，社会心理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工智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BD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模型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Belief―Desire―In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Bratman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关于意图的规划理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91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ning theory of in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tention, Plans, and Practical R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vard University Press,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ford: CSLI Publications, 19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ces of Intention: Essays on Intention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g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bridge University Press, 19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5:15:47Z</dcterms:created>
  <dc:creator>Zhu</dc:creator>
  <dc:description/>
  <dc:language>en-US</dc:language>
  <cp:lastModifiedBy>Zhu</cp:lastModifiedBy>
  <dcterms:modified xsi:type="dcterms:W3CDTF">2004-10-29T17:19:41Z</dcterms:modified>
  <cp:revision>7</cp:revision>
  <dc:subject/>
  <dc:title>关于意图与行动的哲学思考</dc:title>
</cp:coreProperties>
</file>